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</p:sldIdLst>
  <p:sldSz cx="10080625" cy="7559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DFB48-916F-4CA2-9E62-AD73A5E8FF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AE39B-5BB8-457C-831D-4C9FEF3B3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03174-2407-429C-B3BD-76B065EF15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90680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360" y="4793040"/>
            <a:ext cx="90680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9E795-C052-4196-91EC-75ABB4BC403E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CCCD8-49DB-4FA9-9568-61134E9CDD1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D45E1-23A3-45C0-BF50-46F8F539AFB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04360" y="95040"/>
            <a:ext cx="9068040" cy="77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26CC7-4588-4D43-B458-78B02CE79375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04360" y="479304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2F016-400B-4E5D-B752-857B572CFC2D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151240" y="479304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4F2B6-097B-488E-BBA3-C7672E262181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04360" y="4793040"/>
            <a:ext cx="90680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908F9-99ED-479A-BD32-7C408E7D548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90680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04360" y="4793040"/>
            <a:ext cx="90680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F8D4B-3842-4598-AFFD-03E9021B4A3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4360" y="479304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5151240" y="479304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32A65-9AB6-468B-ADAD-1F323C8B8B5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570480" y="176796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636240" y="176796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504360" y="479304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570480" y="479304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636240" y="479304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D1281-1116-4113-841E-0AD63F4935A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0B8F91-D985-4F46-AA98-1000258FD9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360" y="479304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79304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FDE82-6496-49B2-A109-712F11BA850D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504360" y="1767960"/>
            <a:ext cx="90680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286C08-2C31-4FBC-A35C-5EC191FAA6B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90680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FC7009-32D5-4386-8050-9ABDFC6544CB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A40003-7901-4655-ABD2-A9E9566E0CE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D99B90-C968-4B7F-A737-BD111191FD61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504360" y="95040"/>
            <a:ext cx="9068040" cy="77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62743E-AF8D-45B7-A930-38EC2EBF6B98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04360" y="479304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B308D5-425F-43A1-914E-62B3158DE3B5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151240" y="479304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99E856-25B1-43EC-9AA6-43D590147838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504360" y="4793040"/>
            <a:ext cx="90680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9B5D7B-CAD6-47B0-85F1-656C289F5B30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90680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04360" y="4793040"/>
            <a:ext cx="90680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6F9780-547D-4BFA-9D4A-14C24FFEA0FE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504360" y="479304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151240" y="479304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E445B2-4D12-4C36-B5C0-4D33C20505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480" y="176796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240" y="176796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360" y="479304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480" y="479304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240" y="479304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84EC7-9969-40DD-A0FB-60A0BF94F044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570480" y="176796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636240" y="176796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504360" y="479304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570480" y="479304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636240" y="479304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6AD659-29A8-450A-ADD2-30B5A5F27E2C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79EA87-5635-4E27-9F3E-D6A015000FBE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504360" y="1767960"/>
            <a:ext cx="90680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36CA42-9B08-4E96-9CFC-2403CD684097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90680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38760E-81FE-4B1B-BD3F-D0C2EC307B74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4B765F-DCE2-4861-93EB-89C87B88507A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53F9AD-9024-4A82-8F84-CAAB955FE904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504360" y="95040"/>
            <a:ext cx="9068040" cy="77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24212C-0E77-46D1-A2D2-92F3465FF41C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04360" y="479304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DF4A94-126E-4880-AE7F-26AB0C4A8C3A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151240" y="479304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C28A58-9EDB-4043-BA58-8DDCA9800713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504360" y="4793040"/>
            <a:ext cx="90680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CF7026-4865-4EEF-8B25-6DF39B9662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15E66-1114-40A1-92FF-A4C709705795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90680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04360" y="4793040"/>
            <a:ext cx="90680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6A0138-C86E-48E5-8281-BF6802984BC9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04360" y="479304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5151240" y="479304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928E60-E1D0-4666-B974-3834A79C3346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570480" y="176796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636240" y="176796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504360" y="479304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570480" y="479304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636240" y="479304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44BBA4-F7F4-4A72-9629-38CD1BF73E8E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76C1C-1E3B-4A53-8F97-2FE29926D04C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504360" y="1767960"/>
            <a:ext cx="90680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AA087-6BF4-4A7F-B624-447B01AA68CF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90680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93F46-9CEB-4704-A1E6-940D9C04CF1E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48B6C-A981-46C2-B020-B1DF5CAE8149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9292C-78E8-47E0-B087-391A94CCFFFE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504360" y="95040"/>
            <a:ext cx="9068040" cy="77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344F2-A7D8-4532-A174-7AD8030B9628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04360" y="479304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5CC31-4157-4E36-9B88-94273D4FEF3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04360" y="1767960"/>
            <a:ext cx="90680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4B348-EACA-4932-87E5-3AAB635D3DAB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5151240" y="479304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C612F-984A-4103-943C-81680898D61E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4360" y="4793040"/>
            <a:ext cx="90680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2FB66-54FB-471E-A471-0729F9DCC54A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90680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04360" y="4793040"/>
            <a:ext cx="90680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E348F-773A-44E5-B40F-BD3ADE3D3370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504360" y="479304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5151240" y="479304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5643F-8905-4000-BB94-4D3C91B0E3DB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570480" y="176796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636240" y="176796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504360" y="479304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570480" y="479304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636240" y="479304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C5F47-D913-484A-950E-A9846BB33F2B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73AE77B-7338-4F77-9D39-B9421BA76083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504360" y="1767960"/>
            <a:ext cx="90680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502CE01-549C-426D-9C94-A6CEF2B871C6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90680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B30CA3A-21F4-469C-9D71-AA0597DA6490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0D54176-4739-4BD7-96D1-97E41370D23D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9BEE25E-B782-449A-A607-07ABEB33745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90680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775FF-4648-4C74-9067-45299D013F61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504360" y="95040"/>
            <a:ext cx="9068040" cy="77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34E4807-157C-4029-89D8-32077173305B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4360" y="479304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B67BCC-72D3-4979-9816-D12C8C9B4D53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151240" y="479304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467CAE9-72A0-4502-98DF-1AADF0C8634F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04360" y="4793040"/>
            <a:ext cx="90680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EC636A0-D005-4581-8718-275050F0E98F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90680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504360" y="4793040"/>
            <a:ext cx="90680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2267E28-5F95-4F5D-8EB6-2C7A1C1DD8AF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504360" y="479304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5151240" y="479304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102775A-BECF-4A81-B870-27169165A9E6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570480" y="176796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636240" y="176796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504360" y="479304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570480" y="479304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636240" y="479304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9DF5F35-373F-48BD-B10A-5DF50206406D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CA3624-D09B-4602-889B-AE57E622616B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504360" y="1767960"/>
            <a:ext cx="90680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BE0C76-6A80-4F96-9A76-35601C68723A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90680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9A356C-ABA8-42C9-949B-E94111DD128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5C724-959E-4196-AD4E-2B8CA008FDAA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E91426-7BBC-49DF-901F-7252CF5B2534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113128-925D-4DED-875C-1292769C1783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504360" y="95040"/>
            <a:ext cx="9068040" cy="77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38A3F9-373D-4C41-AD83-0FD43D08C51D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504360" y="479304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4823D4-1628-484F-B80D-B74F9DC0359A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151240" y="479304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27B446-943C-46E2-BA4B-7E2D96ADBDCA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04360" y="4793040"/>
            <a:ext cx="90680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1CBE9C-795B-40FF-BB49-4A0F3F958410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90680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04360" y="4793040"/>
            <a:ext cx="90680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C99AA0-FF88-45E0-988D-CE8AB2980D7F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504360" y="479304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5151240" y="479304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C684DF-F8B3-485B-A113-CC6A53356CCB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570480" y="176796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636240" y="176796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504360" y="479304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3570480" y="479304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6636240" y="479304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A6E1B6-5503-4ED0-A78F-823DAAC18AE9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197A58-4F01-4B1E-8B24-2E501528FE1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91335-18C2-44A3-B980-077C735896D8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504360" y="1767960"/>
            <a:ext cx="90680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0D2FE-B192-4D0D-8F21-7B78FE882FF8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90680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418122-02B4-4667-8D1B-F6971E31EFF7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7577B-7671-45BB-BEAD-A399235257C9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6F8F3-E127-4ECB-ABCC-94420B8D705D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504360" y="95040"/>
            <a:ext cx="9068040" cy="77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598F8-AFF2-47CE-A789-F5623AA998E1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504360" y="479304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E5729B-2341-4F46-97AA-ECCC26F8A41D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5151240" y="479304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98A4C-798D-491D-BC57-9E44F1AF7732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504360" y="4793040"/>
            <a:ext cx="90680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5BEF31-0DF7-4632-A9CF-B05628EC9A8C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90680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504360" y="4793040"/>
            <a:ext cx="90680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B59E8F-67B6-4779-B674-1C1E2E3301A8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504360" y="479304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5151240" y="479304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D881F-7F00-4364-A41A-06AEB4D14B1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04360" y="95040"/>
            <a:ext cx="9068040" cy="77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0C1AB-F78F-4D4E-9FF5-0FF49C77A40A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570480" y="176796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636240" y="176796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504360" y="479304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570480" y="479304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636240" y="479304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0D6CDD-8EC3-466D-A00C-5BB8522EB81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04360" y="479304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4A090-271E-4CD6-B208-96F808A338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360" y="1767960"/>
            <a:ext cx="90680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70DB2-2CC7-4B77-969B-93368CAB39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51240" y="479304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AEBA0-13C6-491A-8C45-36AD839E477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4360" y="4793040"/>
            <a:ext cx="90680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7DF49-709C-45E6-81D7-ACBD13762CF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90680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4360" y="4793040"/>
            <a:ext cx="90680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571E1-0355-413E-8AE4-AC1687C2184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4360" y="479304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51240" y="479304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44590-0138-42A4-8588-0474A5E9065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70480" y="176796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636240" y="176796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4360" y="479304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70480" y="479304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636240" y="479304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EBC4A-90AA-40BA-9615-3FF2F3AB740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724E-7098-4786-BC39-D2E1C841A91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04360" y="1767960"/>
            <a:ext cx="90680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FB46-E53A-44C3-B6E0-4B96CA42297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90680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3833-6562-42B7-BEB6-C5019918216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331E-C0F3-44FD-84E6-7097D11DF45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D356-E7E5-4573-A993-3F057CFD26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90680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88A9D-C398-4E78-8D22-98372BFF6A1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504360" y="95040"/>
            <a:ext cx="9068040" cy="77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5E8E-1899-4D2D-A8B6-7706DBB63FB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04360" y="479304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2FCB-49DD-4B1A-B917-1CF8B254735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151240" y="479304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7C94-3BE2-41D3-8833-2C9A62FE7CC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4360" y="4793040"/>
            <a:ext cx="90680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6BC4-3106-49EB-9C4C-C03500E8A7C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90680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4360" y="4793040"/>
            <a:ext cx="90680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B885-BC11-471E-A23C-DF8E7920F7F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04360" y="479304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151240" y="479304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D94E-A299-4B91-8A39-9F77083180D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70480" y="176796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636240" y="176796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04360" y="479304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570480" y="479304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636240" y="479304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75D0-493B-4443-A55D-B69BB4300C3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8B3EF1-B668-4326-BE76-061A5F698DF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504360" y="1767960"/>
            <a:ext cx="90680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93C7D4-A8A7-445B-A386-E078BCEE69A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90680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A202B2-56AF-4E16-BBF7-68DD5C5594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E8ADE-0FCD-4680-BA78-D9B9C0F3636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B91DFB-AF11-4725-8B2E-90EEFF6F6DC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A3E995-7545-4BBD-BC60-C28177041D3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504360" y="95040"/>
            <a:ext cx="9068040" cy="77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83E803-54DC-4B82-96CF-B852BFE1E8C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04360" y="479304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592297-7D3F-43C2-9459-372C084B4E4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151240" y="479304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A00412-1B37-4A2E-84CB-8779462A194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04360" y="4793040"/>
            <a:ext cx="90680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57EE32-9CF9-4576-AC09-EEECA364FDD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90680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4360" y="4793040"/>
            <a:ext cx="90680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DCC317-F31E-43A0-8B24-8A330A13EDF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4360" y="479304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5151240" y="479304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08FDF4-F97B-42B9-8A44-DB248CB7FF7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570480" y="176796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636240" y="176796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04360" y="479304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570480" y="479304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636240" y="479304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9F9775-B847-49AF-A27B-3F00F23B936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D5A984-809B-45EE-A784-0A369FE30E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55915-9C97-4D0E-A91E-BDDDA6689E2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504360" y="1767960"/>
            <a:ext cx="90680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B69B03-A569-4200-A555-5CE65EA1B0F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90680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5C7915-BBB9-46CE-B5AC-87974CC8F70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C46A15-45AF-4014-B131-F9877D6C86C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AE7CA5-587A-4D10-B5E1-2DFB43C76C4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504360" y="95040"/>
            <a:ext cx="9068040" cy="77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BEBE51-06F8-4C8B-B6BD-F18DEC97EB4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04360" y="479304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26D07B-CCFD-4A2A-916A-112511ABCD3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151240" y="479304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F13D7B-9A04-4196-9888-544B79B4A67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04360" y="4793040"/>
            <a:ext cx="90680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842E63-1669-43CE-B521-E8ABF99FCCE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90680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4360" y="4793040"/>
            <a:ext cx="90680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0755ED-2BD5-4CEA-B5D5-80839183138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4360" y="479304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5151240" y="479304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C2A6E5-E5EE-4B03-868C-BA5CEE6539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360" y="95040"/>
            <a:ext cx="9068040" cy="77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956C0-28D4-4A58-9F13-B685802F3DC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570480" y="176796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636240" y="176796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04360" y="479304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570480" y="479304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636240" y="479304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C404E1-DD18-4CAB-A08C-7E4BA7F2BF3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C063F-AE60-479C-948F-861A43F1FC3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04360" y="1767960"/>
            <a:ext cx="90680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B363F-A9A7-461D-AF73-BACEBAF440A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90680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4ACFB-B0C2-43EE-B8D3-0C58501FA30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436D8-657E-4B2D-B7FA-90A3B64DACF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F72B3-B52C-4B19-80F6-0E6D4F1A2E7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04360" y="95040"/>
            <a:ext cx="9068040" cy="77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3B595-54B1-437E-9374-9188ECCE634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04360" y="479304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DF831-094F-481B-AEBD-1D9EA8FD6BD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151240" y="479304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28D99-EA8E-4297-B847-C6B469168FB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4360" y="4793040"/>
            <a:ext cx="90680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E6162-E7BD-43A5-99AD-65E4C765E7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360" y="479304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3B67B-A259-4C18-848B-038ECAFAF26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90680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04360" y="4793040"/>
            <a:ext cx="90680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09C47-3403-4F28-97BE-60DC8D59168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04360" y="479304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151240" y="479304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6ED35-7851-489B-8CFA-78A5E537F28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70480" y="176796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6240" y="176796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04360" y="479304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70480" y="479304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636240" y="479304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097C8-06CE-4A1C-A9D9-868E840BB3D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E292B2-65E8-4060-B7D8-BA3CB479657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504360" y="1767960"/>
            <a:ext cx="90680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9BBEC3-E63F-4B81-94C0-E837B0931F1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90680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C20C12-C7CA-4DD3-85CF-5E37CD5B670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18591F-38BE-49E1-923F-072C9968A68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03D759-3E61-4F69-B31B-74D0F2BD35E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504360" y="95040"/>
            <a:ext cx="9068040" cy="77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47631E-1373-42D7-A113-F01D62B54E6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04360" y="479304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276E6E-CD21-4E13-9645-DFF6F98EDF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79304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AF535-5A8E-4C68-B3ED-3343EE125BF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151240" y="479304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4CB6B5-46D0-4EC3-836F-02695022A56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04360" y="4793040"/>
            <a:ext cx="90680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0644B8-E1E4-4030-B448-D2106C3352E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90680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04360" y="4793040"/>
            <a:ext cx="90680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A61FFA-5CB7-45D9-B765-31E5422FF59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04360" y="479304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5151240" y="479304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8392EE-D6FD-4276-A5DA-FC7234E979F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570480" y="176796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636240" y="176796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504360" y="479304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570480" y="479304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636240" y="479304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B5FA2B-36DD-41F9-8B33-533B2CDA702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F0EA3A-9B45-4424-A7EC-FD89639FD91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504360" y="1767960"/>
            <a:ext cx="90680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A1C3F2-A6E0-47B9-931F-94246F19B6F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90680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C67AE9-A939-4AC5-A0D7-F38C1E55E19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291FB5-8F97-4B6C-BE42-53037EF8B760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984FF3-D98B-4768-A7E4-DB2A11F2AC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360" y="4793040"/>
            <a:ext cx="90680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2CDAC-49EC-4E0F-9E23-D414D1F253D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504360" y="95040"/>
            <a:ext cx="9068040" cy="77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50AE24-A001-4C37-9268-05DF5FA7921E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04360" y="479304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02E572-E4F9-43BF-B451-022D636FDDF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151240" y="479304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6E4501-0829-4AFE-ADEA-DEE26280920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04360" y="4793040"/>
            <a:ext cx="90680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13FBE6-A741-4890-9C9F-BBEFD6C2B3E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90680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04360" y="4793040"/>
            <a:ext cx="90680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4D5A3D-DE4C-4184-8E23-DD143050362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151240" y="176796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04360" y="479304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5151240" y="4793040"/>
            <a:ext cx="44251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F9CB02-B0C8-42E3-BD54-1AD394A46C8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570480" y="176796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636240" y="176796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504360" y="479304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570480" y="479304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636240" y="4793040"/>
            <a:ext cx="291960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387197-4DE5-4357-B63E-523EA98C2E7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FABA1-C663-454B-B6B5-255874344FE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504360" y="1767960"/>
            <a:ext cx="90680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544DC-8C05-4765-9C82-9725DE81A5C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90680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9FDAE-8220-4A44-9C2E-0A895663D3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360" y="1767960"/>
            <a:ext cx="90680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305560" y="6886440"/>
            <a:ext cx="190440" cy="1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CEFBC-02DD-49B7-AC0F-83A15AB6007C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5" descr="\\abz01fst\users\user\swilmes\Desktop\Picture1.jpg"/>
          <p:cNvPicPr/>
          <p:nvPr/>
        </p:nvPicPr>
        <p:blipFill>
          <a:blip r:embed="rId3"/>
          <a:stretch/>
        </p:blipFill>
        <p:spPr>
          <a:xfrm>
            <a:off x="163440" y="1224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" name="TextBox 5"/>
          <p:cNvSpPr/>
          <p:nvPr/>
        </p:nvSpPr>
        <p:spPr>
          <a:xfrm>
            <a:off x="254160" y="7094520"/>
            <a:ext cx="81435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Natascia Ralli/ Sabine Wilmes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Institute for Specialised Communication and Multilingual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5" descr="\\abz01fst\users\user\swilmes\Desktop\Picture1.jpg"/>
          <p:cNvPicPr/>
          <p:nvPr/>
        </p:nvPicPr>
        <p:blipFill>
          <a:blip r:embed="rId3"/>
          <a:stretch/>
        </p:blipFill>
        <p:spPr>
          <a:xfrm>
            <a:off x="163440" y="1224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76" name="TextBox 5"/>
          <p:cNvSpPr/>
          <p:nvPr/>
        </p:nvSpPr>
        <p:spPr>
          <a:xfrm>
            <a:off x="254160" y="7094520"/>
            <a:ext cx="81435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Natascia Ralli/ Sabine Wilmes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Institute for Specialised Communication and Multilingual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2" descr="\\abz01fst\users\user\swilmes\Desktop\Background PPP.jpg"/>
          <p:cNvPicPr/>
          <p:nvPr/>
        </p:nvPicPr>
        <p:blipFill>
          <a:blip r:embed="rId4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378" name="TextBox 6"/>
          <p:cNvSpPr/>
          <p:nvPr/>
        </p:nvSpPr>
        <p:spPr>
          <a:xfrm>
            <a:off x="5183280" y="422280"/>
            <a:ext cx="4725720" cy="28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c0000"/>
                </a:solidFill>
                <a:latin typeface="Arial"/>
              </a:rPr>
              <a:t>Institute for Specialised Communication and Multilingualism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504360" y="1767960"/>
            <a:ext cx="90680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sldNum" idx="10"/>
          </p:nvPr>
        </p:nvSpPr>
        <p:spPr>
          <a:xfrm>
            <a:off x="8305560" y="6886440"/>
            <a:ext cx="190440" cy="1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964D2-516B-4028-A177-D210273F2E1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5" descr="\\abz01fst\users\user\swilmes\Desktop\Picture1.jpg"/>
          <p:cNvPicPr/>
          <p:nvPr/>
        </p:nvPicPr>
        <p:blipFill>
          <a:blip r:embed="rId3"/>
          <a:stretch/>
        </p:blipFill>
        <p:spPr>
          <a:xfrm>
            <a:off x="163440" y="1224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19" name="TextBox 5"/>
          <p:cNvSpPr/>
          <p:nvPr/>
        </p:nvSpPr>
        <p:spPr>
          <a:xfrm>
            <a:off x="254160" y="7094520"/>
            <a:ext cx="81435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Natascia Ralli/ Sabine Wilmes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Institute for Specialised Communication and Multilingual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2" descr="\\abz01fst\users\user\swilmes\Desktop\Background PPP.jpg"/>
          <p:cNvPicPr/>
          <p:nvPr/>
        </p:nvPicPr>
        <p:blipFill>
          <a:blip r:embed="rId4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504360" y="1767960"/>
            <a:ext cx="90680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sldNum" idx="11"/>
          </p:nvPr>
        </p:nvSpPr>
        <p:spPr>
          <a:xfrm>
            <a:off x="8305560" y="6886440"/>
            <a:ext cx="190440" cy="1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D6EB9-E7E9-4DD5-82CB-6F4DFCFD57B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5" descr="\\abz01fst\users\user\swilmes\Desktop\Picture1.jpg"/>
          <p:cNvPicPr/>
          <p:nvPr/>
        </p:nvPicPr>
        <p:blipFill>
          <a:blip r:embed="rId3"/>
          <a:stretch/>
        </p:blipFill>
        <p:spPr>
          <a:xfrm>
            <a:off x="163440" y="1224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61" name="TextBox 5"/>
          <p:cNvSpPr/>
          <p:nvPr/>
        </p:nvSpPr>
        <p:spPr>
          <a:xfrm>
            <a:off x="254160" y="7094520"/>
            <a:ext cx="81435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Natascia Ralli/ Sabine Wilmes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Institute for Specialised Communication and Multilingual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Picture 2" descr="\\abz01fst\users\user\swilmes\Desktop\Background PPP.jpg"/>
          <p:cNvPicPr/>
          <p:nvPr/>
        </p:nvPicPr>
        <p:blipFill>
          <a:blip r:embed="rId4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504360" y="1767960"/>
            <a:ext cx="90680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sldNum" idx="12"/>
          </p:nvPr>
        </p:nvSpPr>
        <p:spPr>
          <a:xfrm>
            <a:off x="8305560" y="6886440"/>
            <a:ext cx="190440" cy="1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833A9-222B-4ABE-9E3E-CF82D3B6C9C2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5" descr="\\abz01fst\users\user\swilmes\Desktop\Picture1.jpg"/>
          <p:cNvPicPr/>
          <p:nvPr/>
        </p:nvPicPr>
        <p:blipFill>
          <a:blip r:embed="rId3"/>
          <a:stretch/>
        </p:blipFill>
        <p:spPr>
          <a:xfrm>
            <a:off x="163440" y="1224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03" name="TextBox 5"/>
          <p:cNvSpPr/>
          <p:nvPr/>
        </p:nvSpPr>
        <p:spPr>
          <a:xfrm>
            <a:off x="254160" y="7094520"/>
            <a:ext cx="81435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Natascia Ralli/ Sabine Wilmes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Institute for Specialised Communication and Multilingual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2" descr="\\abz01fst\users\user\swilmes\Desktop\Background PPP.jpg"/>
          <p:cNvPicPr/>
          <p:nvPr/>
        </p:nvPicPr>
        <p:blipFill>
          <a:blip r:embed="rId4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504360" y="1767960"/>
            <a:ext cx="90680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sldNum" idx="13"/>
          </p:nvPr>
        </p:nvSpPr>
        <p:spPr>
          <a:xfrm>
            <a:off x="8305560" y="6886440"/>
            <a:ext cx="190440" cy="1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D57AA-408D-45D6-A9EA-FCD12D3D1053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5" descr="\\abz01fst\users\user\swilmes\Desktop\Picture1.jpg"/>
          <p:cNvPicPr/>
          <p:nvPr/>
        </p:nvPicPr>
        <p:blipFill>
          <a:blip r:embed="rId3"/>
          <a:stretch/>
        </p:blipFill>
        <p:spPr>
          <a:xfrm>
            <a:off x="163440" y="1224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45" name="TextBox 5"/>
          <p:cNvSpPr/>
          <p:nvPr/>
        </p:nvSpPr>
        <p:spPr>
          <a:xfrm>
            <a:off x="254160" y="7094520"/>
            <a:ext cx="81435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Natascia Ralli/ Sabine Wilmes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Institute for Specialised Communication and Multilingual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2" descr="\\abz01fst\users\user\swilmes\Desktop\Background PPP.jpg"/>
          <p:cNvPicPr/>
          <p:nvPr/>
        </p:nvPicPr>
        <p:blipFill>
          <a:blip r:embed="rId4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3" descr="\\abz01fst\users\user\swilmes\Desktop\Background PPP.jpg"/>
          <p:cNvPicPr/>
          <p:nvPr/>
        </p:nvPicPr>
        <p:blipFill>
          <a:blip r:embed="rId5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504360" y="1767960"/>
            <a:ext cx="90680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sldNum" idx="14"/>
          </p:nvPr>
        </p:nvSpPr>
        <p:spPr>
          <a:xfrm>
            <a:off x="8305560" y="6886440"/>
            <a:ext cx="190440" cy="1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061E4-D391-4248-8823-EDC1C84FDFED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Picture 5" descr="\\abz01fst\users\user\swilmes\Desktop\Picture1.jpg"/>
          <p:cNvPicPr/>
          <p:nvPr/>
        </p:nvPicPr>
        <p:blipFill>
          <a:blip r:embed="rId3"/>
          <a:stretch/>
        </p:blipFill>
        <p:spPr>
          <a:xfrm>
            <a:off x="163440" y="1224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88" name="TextBox 5"/>
          <p:cNvSpPr/>
          <p:nvPr/>
        </p:nvSpPr>
        <p:spPr>
          <a:xfrm>
            <a:off x="254160" y="7094520"/>
            <a:ext cx="81435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Natascia Ralli/ Sabine Wilmes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Institute for Specialised Communication and Multilingual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Picture 2" descr="\\abz01fst\users\user\swilmes\Desktop\Background PPP.jpg"/>
          <p:cNvPicPr/>
          <p:nvPr/>
        </p:nvPicPr>
        <p:blipFill>
          <a:blip r:embed="rId4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504360" y="1767960"/>
            <a:ext cx="90680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sldNum" idx="15"/>
          </p:nvPr>
        </p:nvSpPr>
        <p:spPr>
          <a:xfrm>
            <a:off x="8305560" y="6886440"/>
            <a:ext cx="190440" cy="1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6F938-B395-4116-B68C-F7B77FD78076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3"/>
          <a:stretch/>
        </p:blipFill>
        <p:spPr>
          <a:xfrm>
            <a:off x="539640" y="6708600"/>
            <a:ext cx="1228680" cy="62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04360" y="1767960"/>
            <a:ext cx="90680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8305560" y="6886440"/>
            <a:ext cx="190440" cy="1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0C34B-A290-4BE6-A9EB-85D845D13F7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" descr=""/>
          <p:cNvPicPr/>
          <p:nvPr/>
        </p:nvPicPr>
        <p:blipFill>
          <a:blip r:embed="rId3"/>
          <a:stretch/>
        </p:blipFill>
        <p:spPr>
          <a:xfrm>
            <a:off x="396720" y="6780240"/>
            <a:ext cx="1229040" cy="62856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4360" y="1767960"/>
            <a:ext cx="90680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3"/>
          </p:nvPr>
        </p:nvSpPr>
        <p:spPr>
          <a:xfrm>
            <a:off x="8305560" y="6886440"/>
            <a:ext cx="190440" cy="1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97597-1ABF-43ED-8B10-46EBC4C9929E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504360" y="1767960"/>
            <a:ext cx="90680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Num" idx="4"/>
          </p:nvPr>
        </p:nvSpPr>
        <p:spPr>
          <a:xfrm>
            <a:off x="8305560" y="6886440"/>
            <a:ext cx="190440" cy="1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2D9E4-5E2E-42B9-B48A-999E79FC4517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5" descr="\\abz01fst\users\user\swilmes\Desktop\Picture1.jpg"/>
          <p:cNvPicPr/>
          <p:nvPr/>
        </p:nvPicPr>
        <p:blipFill>
          <a:blip r:embed="rId3"/>
          <a:stretch/>
        </p:blipFill>
        <p:spPr>
          <a:xfrm>
            <a:off x="163440" y="1224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61" name="TextBox 5"/>
          <p:cNvSpPr/>
          <p:nvPr/>
        </p:nvSpPr>
        <p:spPr>
          <a:xfrm>
            <a:off x="254160" y="7094520"/>
            <a:ext cx="81435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Natascia Ralli/ Sabine Wilmes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Institute for Specialised Communication and Multilingual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\\abz01fst\users\user\swilmes\Desktop\Background PPP.jpg"/>
          <p:cNvPicPr/>
          <p:nvPr/>
        </p:nvPicPr>
        <p:blipFill>
          <a:blip r:embed="rId4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63" name="TextBox 6"/>
          <p:cNvSpPr/>
          <p:nvPr/>
        </p:nvSpPr>
        <p:spPr>
          <a:xfrm>
            <a:off x="5183280" y="422280"/>
            <a:ext cx="4725720" cy="28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c0000"/>
                </a:solidFill>
                <a:latin typeface="Arial"/>
              </a:rPr>
              <a:t>Institute for Specialised Communication and Multilingualism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04360" y="1767960"/>
            <a:ext cx="90680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5"/>
          </p:nvPr>
        </p:nvSpPr>
        <p:spPr>
          <a:xfrm>
            <a:off x="8305560" y="6886440"/>
            <a:ext cx="190440" cy="1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03128-35FA-485F-BA03-3C16012A31DD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5" descr="\\abz01fst\users\user\swilmes\Desktop\Picture1.jpg"/>
          <p:cNvPicPr/>
          <p:nvPr/>
        </p:nvPicPr>
        <p:blipFill>
          <a:blip r:embed="rId3"/>
          <a:stretch/>
        </p:blipFill>
        <p:spPr>
          <a:xfrm>
            <a:off x="163440" y="1224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04" name="TextBox 5"/>
          <p:cNvSpPr/>
          <p:nvPr/>
        </p:nvSpPr>
        <p:spPr>
          <a:xfrm>
            <a:off x="254160" y="7094520"/>
            <a:ext cx="81435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Natascia Ralli/ Sabine Wilmes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Institute for Specialised Communication and Multilingual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2" descr="\\abz01fst\users\user\swilmes\Desktop\Background PPP.jpg"/>
          <p:cNvPicPr/>
          <p:nvPr/>
        </p:nvPicPr>
        <p:blipFill>
          <a:blip r:embed="rId4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06" name="TextBox 6"/>
          <p:cNvSpPr/>
          <p:nvPr/>
        </p:nvSpPr>
        <p:spPr>
          <a:xfrm>
            <a:off x="5183280" y="422280"/>
            <a:ext cx="4725720" cy="28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c0000"/>
                </a:solidFill>
                <a:latin typeface="Arial"/>
              </a:rPr>
              <a:t>Institute for Specialised Communication and Multilingualism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504360" y="1767960"/>
            <a:ext cx="90680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6"/>
          </p:nvPr>
        </p:nvSpPr>
        <p:spPr>
          <a:xfrm>
            <a:off x="8305560" y="6886440"/>
            <a:ext cx="190440" cy="1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3C4E5-9A89-40D2-9D24-36A7CD91B986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5" descr="\\abz01fst\users\user\swilmes\Desktop\Picture1.jpg"/>
          <p:cNvPicPr/>
          <p:nvPr/>
        </p:nvPicPr>
        <p:blipFill>
          <a:blip r:embed="rId3"/>
          <a:stretch/>
        </p:blipFill>
        <p:spPr>
          <a:xfrm>
            <a:off x="163440" y="1224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47" name="TextBox 5"/>
          <p:cNvSpPr/>
          <p:nvPr/>
        </p:nvSpPr>
        <p:spPr>
          <a:xfrm>
            <a:off x="254160" y="7094520"/>
            <a:ext cx="81435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Natascia Ralli/ Sabine Wilmes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Institute for Specialised Communication and Multilingual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2" descr="\\abz01fst\users\user\swilmes\Desktop\Background PPP.jpg"/>
          <p:cNvPicPr/>
          <p:nvPr/>
        </p:nvPicPr>
        <p:blipFill>
          <a:blip r:embed="rId4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49" name="TextBox 6"/>
          <p:cNvSpPr/>
          <p:nvPr/>
        </p:nvSpPr>
        <p:spPr>
          <a:xfrm>
            <a:off x="5183280" y="422280"/>
            <a:ext cx="4725720" cy="28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c0000"/>
                </a:solidFill>
                <a:latin typeface="Arial"/>
              </a:rPr>
              <a:t>Institute for Specialised Communication and Multilingualism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504360" y="1767960"/>
            <a:ext cx="90680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sldNum" idx="7"/>
          </p:nvPr>
        </p:nvSpPr>
        <p:spPr>
          <a:xfrm>
            <a:off x="8305560" y="6886440"/>
            <a:ext cx="190440" cy="1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DEF00-109C-49AC-AD99-78EA7E13720F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5" descr="\\abz01fst\users\user\swilmes\Desktop\Picture1.jpg"/>
          <p:cNvPicPr/>
          <p:nvPr/>
        </p:nvPicPr>
        <p:blipFill>
          <a:blip r:embed="rId3"/>
          <a:stretch/>
        </p:blipFill>
        <p:spPr>
          <a:xfrm>
            <a:off x="163440" y="1224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90" name="TextBox 5"/>
          <p:cNvSpPr/>
          <p:nvPr/>
        </p:nvSpPr>
        <p:spPr>
          <a:xfrm>
            <a:off x="254160" y="7094520"/>
            <a:ext cx="81435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Natascia Ralli/ Sabine Wilmes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Institute for Specialised Communication and Multilingual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2" descr="\\abz01fst\users\user\swilmes\Desktop\Background PPP.jpg"/>
          <p:cNvPicPr/>
          <p:nvPr/>
        </p:nvPicPr>
        <p:blipFill>
          <a:blip r:embed="rId4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92" name="TextBox 7"/>
          <p:cNvSpPr/>
          <p:nvPr/>
        </p:nvSpPr>
        <p:spPr>
          <a:xfrm>
            <a:off x="5183280" y="422280"/>
            <a:ext cx="4725720" cy="28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c0000"/>
                </a:solidFill>
                <a:latin typeface="Arial"/>
              </a:rPr>
              <a:t>Institute for Specialised Communication and Multilingualism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504360" y="1767960"/>
            <a:ext cx="90680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sldNum" idx="8"/>
          </p:nvPr>
        </p:nvSpPr>
        <p:spPr>
          <a:xfrm>
            <a:off x="8305560" y="6886440"/>
            <a:ext cx="190440" cy="1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FD0E2-73C3-485E-A16C-D271F295695E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5" descr="\\abz01fst\users\user\swilmes\Desktop\Picture1.jpg"/>
          <p:cNvPicPr/>
          <p:nvPr/>
        </p:nvPicPr>
        <p:blipFill>
          <a:blip r:embed="rId3"/>
          <a:stretch/>
        </p:blipFill>
        <p:spPr>
          <a:xfrm>
            <a:off x="163440" y="1224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33" name="TextBox 5"/>
          <p:cNvSpPr/>
          <p:nvPr/>
        </p:nvSpPr>
        <p:spPr>
          <a:xfrm>
            <a:off x="254160" y="7094520"/>
            <a:ext cx="81435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Natascia Ralli/ Sabine Wilmes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Institute for Specialised Communication and Multilingual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2" descr="\\abz01fst\users\user\swilmes\Desktop\Background PPP.jpg"/>
          <p:cNvPicPr/>
          <p:nvPr/>
        </p:nvPicPr>
        <p:blipFill>
          <a:blip r:embed="rId4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335" name="TextBox 6"/>
          <p:cNvSpPr/>
          <p:nvPr/>
        </p:nvSpPr>
        <p:spPr>
          <a:xfrm>
            <a:off x="5183280" y="422280"/>
            <a:ext cx="4725720" cy="28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c0000"/>
                </a:solidFill>
                <a:latin typeface="Arial"/>
              </a:rPr>
              <a:t>Institute for Specialised Communication and Multilingualism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504360" y="1767960"/>
            <a:ext cx="90680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Num" idx="9"/>
          </p:nvPr>
        </p:nvSpPr>
        <p:spPr>
          <a:xfrm>
            <a:off x="8305560" y="6886440"/>
            <a:ext cx="190440" cy="1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9D0B3-640F-4843-BB1E-FD854A1AF99D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urac.edu/bistro" TargetMode="External"/><Relationship Id="rId3" Type="http://schemas.openxmlformats.org/officeDocument/2006/relationships/hyperlink" Target="http://www.eurac.edu/LexALP" TargetMode="External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504360" y="1767960"/>
            <a:ext cx="90680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8305920" y="6886440"/>
            <a:ext cx="19044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CD085-A0EB-48A2-8A84-78B66D282702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Picture 2" descr="\\abz01fst\users\user\swilmes\Desktop\Picture1.jpg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640" name="Rectangle 5"/>
          <p:cNvSpPr/>
          <p:nvPr/>
        </p:nvSpPr>
        <p:spPr>
          <a:xfrm>
            <a:off x="325440" y="3351240"/>
            <a:ext cx="9215280" cy="17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stitute fo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pecialised Communication and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ultilingualis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6"/>
          <p:cNvSpPr/>
          <p:nvPr/>
        </p:nvSpPr>
        <p:spPr>
          <a:xfrm>
            <a:off x="254160" y="1636560"/>
            <a:ext cx="928656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Applied Linguist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04360" y="95040"/>
            <a:ext cx="90680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504360" y="1767960"/>
            <a:ext cx="90680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8305920" y="6886440"/>
            <a:ext cx="19044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317A8-6B14-4B0A-BF3E-097C28F8119E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Picture 2" descr="\\abz01fst\users\user\swilmes\Desktop\Picture1.jpg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646" name="AutoShape 20"/>
          <p:cNvSpPr/>
          <p:nvPr/>
        </p:nvSpPr>
        <p:spPr>
          <a:xfrm>
            <a:off x="504720" y="1208160"/>
            <a:ext cx="9068040" cy="2071440"/>
          </a:xfrm>
          <a:prstGeom prst="pi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7" name="Group 6"/>
          <p:cNvGrpSpPr/>
          <p:nvPr/>
        </p:nvGrpSpPr>
        <p:grpSpPr>
          <a:xfrm>
            <a:off x="754200" y="3279600"/>
            <a:ext cx="2089080" cy="3587760"/>
            <a:chOff x="754200" y="3279600"/>
            <a:chExt cx="2089080" cy="3587760"/>
          </a:xfrm>
        </p:grpSpPr>
        <p:sp>
          <p:nvSpPr>
            <p:cNvPr id="648" name="AutoShape 8"/>
            <p:cNvSpPr/>
            <p:nvPr/>
          </p:nvSpPr>
          <p:spPr>
            <a:xfrm>
              <a:off x="754200" y="3279600"/>
              <a:ext cx="2089080" cy="3587760"/>
            </a:xfrm>
            <a:prstGeom prst="pie">
              <a:avLst/>
            </a:prstGeom>
            <a:solidFill>
              <a:srgbClr val="4068a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AutoShape 9"/>
            <p:cNvSpPr/>
            <p:nvPr/>
          </p:nvSpPr>
          <p:spPr>
            <a:xfrm>
              <a:off x="754200" y="3841560"/>
              <a:ext cx="2089080" cy="56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Rectangle 9"/>
            <p:cNvSpPr/>
            <p:nvPr/>
          </p:nvSpPr>
          <p:spPr>
            <a:xfrm>
              <a:off x="754200" y="4404960"/>
              <a:ext cx="2089080" cy="189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1" name="Group 10"/>
          <p:cNvGrpSpPr/>
          <p:nvPr/>
        </p:nvGrpSpPr>
        <p:grpSpPr>
          <a:xfrm>
            <a:off x="3825720" y="3279600"/>
            <a:ext cx="2089080" cy="3587760"/>
            <a:chOff x="3825720" y="3279600"/>
            <a:chExt cx="2089080" cy="3587760"/>
          </a:xfrm>
        </p:grpSpPr>
        <p:sp>
          <p:nvSpPr>
            <p:cNvPr id="652" name="AutoShape 12"/>
            <p:cNvSpPr/>
            <p:nvPr/>
          </p:nvSpPr>
          <p:spPr>
            <a:xfrm>
              <a:off x="3825720" y="3279600"/>
              <a:ext cx="2089080" cy="3587760"/>
            </a:xfrm>
            <a:prstGeom prst="pie">
              <a:avLst/>
            </a:prstGeom>
            <a:solidFill>
              <a:srgbClr val="9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AutoShape 13"/>
            <p:cNvSpPr/>
            <p:nvPr/>
          </p:nvSpPr>
          <p:spPr>
            <a:xfrm>
              <a:off x="3825720" y="3841560"/>
              <a:ext cx="2089080" cy="56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Rectangle 13"/>
            <p:cNvSpPr/>
            <p:nvPr/>
          </p:nvSpPr>
          <p:spPr>
            <a:xfrm>
              <a:off x="3825720" y="4404960"/>
              <a:ext cx="2089080" cy="189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5" name="Group 14"/>
          <p:cNvGrpSpPr/>
          <p:nvPr/>
        </p:nvGrpSpPr>
        <p:grpSpPr>
          <a:xfrm>
            <a:off x="6754680" y="3279600"/>
            <a:ext cx="2089080" cy="3587760"/>
            <a:chOff x="6754680" y="3279600"/>
            <a:chExt cx="2089080" cy="3587760"/>
          </a:xfrm>
        </p:grpSpPr>
        <p:sp>
          <p:nvSpPr>
            <p:cNvPr id="656" name="AutoShape 16"/>
            <p:cNvSpPr/>
            <p:nvPr/>
          </p:nvSpPr>
          <p:spPr>
            <a:xfrm>
              <a:off x="6754680" y="3279600"/>
              <a:ext cx="2089080" cy="3587760"/>
            </a:xfrm>
            <a:prstGeom prst="pi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AutoShape 17"/>
            <p:cNvSpPr/>
            <p:nvPr/>
          </p:nvSpPr>
          <p:spPr>
            <a:xfrm>
              <a:off x="6754680" y="3841560"/>
              <a:ext cx="2089080" cy="56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17"/>
            <p:cNvSpPr/>
            <p:nvPr/>
          </p:nvSpPr>
          <p:spPr>
            <a:xfrm>
              <a:off x="6754680" y="4404960"/>
              <a:ext cx="2089080" cy="189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" name="Rectangle 25"/>
          <p:cNvSpPr/>
          <p:nvPr/>
        </p:nvSpPr>
        <p:spPr>
          <a:xfrm>
            <a:off x="3325680" y="2494080"/>
            <a:ext cx="3365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93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  <a:ea typeface="Trebuchet MS"/>
              </a:rPr>
              <a:t>MAIN AREAS OF 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24"/>
          <p:cNvSpPr/>
          <p:nvPr/>
        </p:nvSpPr>
        <p:spPr>
          <a:xfrm>
            <a:off x="825480" y="4780080"/>
            <a:ext cx="200664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93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  <a:ea typeface="Trebuchet MS"/>
              </a:rPr>
              <a:t>Bilingualism 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93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  <a:ea typeface="Trebuchet MS"/>
              </a:rPr>
              <a:t>Multilingual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22"/>
          <p:cNvSpPr/>
          <p:nvPr/>
        </p:nvSpPr>
        <p:spPr>
          <a:xfrm>
            <a:off x="3897360" y="4851360"/>
            <a:ext cx="19429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93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  <a:ea typeface="Trebuchet MS"/>
              </a:rPr>
              <a:t>Specialised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Box 23"/>
          <p:cNvSpPr/>
          <p:nvPr/>
        </p:nvSpPr>
        <p:spPr>
          <a:xfrm>
            <a:off x="6826320" y="4851360"/>
            <a:ext cx="192888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600">
              <a:lnSpc>
                <a:spcPct val="93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  <a:ea typeface="Trebuchet MS"/>
              </a:rPr>
              <a:t>Language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Slide Number Placeholder 3"/>
          <p:cNvSpPr/>
          <p:nvPr/>
        </p:nvSpPr>
        <p:spPr>
          <a:xfrm>
            <a:off x="8305920" y="6886440"/>
            <a:ext cx="19044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E8642-C269-4117-8801-8041138BEAD6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5"/>
          <p:cNvSpPr/>
          <p:nvPr/>
        </p:nvSpPr>
        <p:spPr>
          <a:xfrm>
            <a:off x="896760" y="993600"/>
            <a:ext cx="8501400" cy="2014560"/>
          </a:xfrm>
          <a:prstGeom prst="flowChartExtract">
            <a:avLst/>
          </a:prstGeom>
          <a:solidFill>
            <a:srgbClr val="00b8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AutoShape 15"/>
          <p:cNvSpPr/>
          <p:nvPr/>
        </p:nvSpPr>
        <p:spPr>
          <a:xfrm>
            <a:off x="1039680" y="2994120"/>
            <a:ext cx="2089440" cy="3587760"/>
          </a:xfrm>
          <a:prstGeom prst="flowChartMagneticDisk">
            <a:avLst/>
          </a:prstGeom>
          <a:solidFill>
            <a:srgbClr val="007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AutoShape 15"/>
          <p:cNvSpPr/>
          <p:nvPr/>
        </p:nvSpPr>
        <p:spPr>
          <a:xfrm>
            <a:off x="3754440" y="2994120"/>
            <a:ext cx="2089080" cy="3587760"/>
          </a:xfrm>
          <a:prstGeom prst="flowChartMagneticDisk">
            <a:avLst/>
          </a:prstGeom>
          <a:solidFill>
            <a:srgbClr val="a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AutoShape 15"/>
          <p:cNvSpPr/>
          <p:nvPr/>
        </p:nvSpPr>
        <p:spPr>
          <a:xfrm>
            <a:off x="6611760" y="2994120"/>
            <a:ext cx="2089440" cy="3587760"/>
          </a:xfrm>
          <a:prstGeom prst="flowChartMagneticDisk">
            <a:avLst/>
          </a:prstGeom>
          <a:solidFill>
            <a:srgbClr val="61942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Box 10"/>
          <p:cNvSpPr/>
          <p:nvPr/>
        </p:nvSpPr>
        <p:spPr>
          <a:xfrm>
            <a:off x="3182760" y="1994040"/>
            <a:ext cx="37864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HAT WE O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8"/>
          <p:cNvSpPr/>
          <p:nvPr/>
        </p:nvSpPr>
        <p:spPr>
          <a:xfrm>
            <a:off x="1254240" y="3351240"/>
            <a:ext cx="166032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rebuchet MS"/>
              </a:rPr>
              <a:t>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6"/>
          <p:cNvSpPr/>
          <p:nvPr/>
        </p:nvSpPr>
        <p:spPr>
          <a:xfrm>
            <a:off x="3897360" y="3279600"/>
            <a:ext cx="19429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rebuchet MS"/>
              </a:rPr>
              <a:t>Training/ Consul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7"/>
          <p:cNvSpPr/>
          <p:nvPr/>
        </p:nvSpPr>
        <p:spPr>
          <a:xfrm>
            <a:off x="6754680" y="3351240"/>
            <a:ext cx="187164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rebuchet MS"/>
              </a:rPr>
              <a:t>Pub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12"/>
          <p:cNvSpPr/>
          <p:nvPr/>
        </p:nvSpPr>
        <p:spPr>
          <a:xfrm>
            <a:off x="968400" y="4494240"/>
            <a:ext cx="2160720" cy="8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lnSpc>
                <a:spcPct val="93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Research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lnSpc>
                <a:spcPct val="93000"/>
              </a:lnSpc>
              <a:spcBef>
                <a:spcPts val="10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Research networ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14"/>
          <p:cNvSpPr/>
          <p:nvPr/>
        </p:nvSpPr>
        <p:spPr>
          <a:xfrm>
            <a:off x="4040280" y="4280040"/>
            <a:ext cx="2154240" cy="21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93000"/>
              </a:lnSpc>
              <a:spcBef>
                <a:spcPts val="10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Termi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3000"/>
              </a:lnSpc>
              <a:spcBef>
                <a:spcPts val="10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Specialised trans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3000"/>
              </a:lnSpc>
              <a:spcBef>
                <a:spcPts val="10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Electronic language 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3000"/>
              </a:lnSpc>
              <a:spcBef>
                <a:spcPts val="10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13"/>
          <p:cNvSpPr/>
          <p:nvPr/>
        </p:nvSpPr>
        <p:spPr>
          <a:xfrm>
            <a:off x="6611760" y="4208400"/>
            <a:ext cx="214344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93000"/>
              </a:lnSpc>
              <a:spcBef>
                <a:spcPts val="10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Boo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3000"/>
              </a:lnSpc>
              <a:spcBef>
                <a:spcPts val="10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Conference proceed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3000"/>
              </a:lnSpc>
              <a:spcBef>
                <a:spcPts val="10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Scientific artic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3000"/>
              </a:lnSpc>
              <a:spcBef>
                <a:spcPts val="10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Dictionaries (printed/ electroni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68360" y="636120"/>
            <a:ext cx="906768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0000"/>
                </a:solidFill>
                <a:latin typeface="Arial"/>
              </a:rPr>
              <a:t>Bilingualism and Multilingualis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504360" y="1279080"/>
            <a:ext cx="9068040" cy="628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3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roaches for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inguistic diversity managemen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anguages and mig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Bef>
                <a:spcPts val="1100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nguage proficiency assessment &amp; promotion of children with migration background (Multicultural Education on Border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Bef>
                <a:spcPts val="1100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alysis of the need for specialised language skills among immigrants to South Tyrol (LIMM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onal and minority langua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Bef>
                <a:spcPts val="1100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tworking on multilingualism and language diversity in Europe (RML2 futur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Bef>
                <a:spcPts val="1100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lectronic resources for Italian sign language (LODE &amp; eli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anguage proficiency and language conta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Bef>
                <a:spcPts val="1100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alysis of second language competences of South Tyrolean and the sociolinguistic background (KOLIPS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Bef>
                <a:spcPts val="1100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South Tyrolean “bilingualism examination” in comparison with other language tests and certific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cond and foreign language teaching and learn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Bef>
                <a:spcPts val="11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versifying “mother tongue" teaching in multilingual contexts (MARIL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Bef>
                <a:spcPts val="11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nguage learning and new technologies (ELDIT, Korpus Südtiro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8305920" y="6886440"/>
            <a:ext cx="19044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AFFA5-01CD-425C-BBBE-F308630F8A57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4360" y="922320"/>
            <a:ext cx="9068040" cy="84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0000"/>
                </a:solidFill>
                <a:latin typeface="Arial"/>
              </a:rPr>
              <a:t>Specialised Commun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504360" y="1767960"/>
            <a:ext cx="90680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3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cus on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egal languag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terminological comparison of different legal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erminology 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Bef>
                <a:spcPts val="1100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blished in online databases (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urac.edu/bistro</a:t>
            </a:r>
            <a:r>
              <a:rPr b="0" lang="en-GB" sz="1800" spc="-1" strike="noStrike">
                <a:solidFill>
                  <a:srgbClr val="ac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GB" sz="1800" spc="-1" strike="noStrike">
                <a:solidFill>
                  <a:srgbClr val="ac0000"/>
                </a:solidFill>
                <a:latin typeface="Arial"/>
              </a:rPr>
              <a:t> 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urac.edu/LexALP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erminolog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tandardis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Bef>
                <a:spcPts val="1100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eparatory work for the South Tyrolean Terminology Commission (bistr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Bef>
                <a:spcPts val="1100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rmonisation of the terminology used by the Alpine Convention (LexAL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ictiona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Bef>
                <a:spcPts val="1100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alian-German legal dictionary (DIGI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Bef>
                <a:spcPts val="1100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ctionary of university law in Italy and Austria (UniTER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ining cour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Bef>
                <a:spcPts val="11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se in technical writing and computer aided translation (InTra II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8305920" y="6886440"/>
            <a:ext cx="19044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18F73-8A9B-4665-B215-E41CD68ED49D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Text Box 10"/>
          <p:cNvSpPr/>
          <p:nvPr/>
        </p:nvSpPr>
        <p:spPr>
          <a:xfrm>
            <a:off x="236520" y="787320"/>
            <a:ext cx="960768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503280" indent="-503280">
              <a:lnSpc>
                <a:spcPct val="93000"/>
              </a:lnSpc>
              <a:spcAft>
                <a:spcPts val="13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rebuchet MS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2"/>
          <p:cNvSpPr/>
          <p:nvPr/>
        </p:nvSpPr>
        <p:spPr>
          <a:xfrm>
            <a:off x="157320" y="1751040"/>
            <a:ext cx="9686880" cy="51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  <a:ea typeface="ＭＳ Ｐゴシック"/>
              </a:rPr>
              <a:t>Multicultural Education on Borders</a:t>
            </a:r>
            <a:br>
              <a:rPr sz="3500"/>
            </a:b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anguage proficiency assessment &amp; promotion of migra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Ai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lnSpc>
                <a:spcPct val="93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ヒラギノ角ゴ ProN W3"/>
              </a:rPr>
              <a:t>Reveal the linguistic behaviour and communicative language competences of children with migration background in primary schools (at 2006/2007 and 2009/20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lnSpc>
                <a:spcPct val="93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ヒラギノ角ゴ ProN W3"/>
              </a:rPr>
              <a:t>Elaborate guidelines that support the decision-making process on language assessment and linguistic pro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lnSpc>
                <a:spcPct val="93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ヒラギノ角ゴ ProN W3"/>
              </a:rPr>
              <a:t>Combination of methods: classroom observation, language testing, interviews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Partn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lnSpc>
                <a:spcPct val="93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ヒラギノ角ゴ ProN W3"/>
              </a:rPr>
              <a:t>Several primary and secondary schools in South Tyrol with German as language of i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lnSpc>
                <a:spcPct val="93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ヒラギノ角ゴ ProN W3"/>
              </a:rPr>
              <a:t>The “language centres” (</a:t>
            </a:r>
            <a:r>
              <a:rPr b="0" i="1" lang="en-GB" sz="1800" spc="-1" strike="noStrike">
                <a:solidFill>
                  <a:srgbClr val="000000"/>
                </a:solidFill>
                <a:latin typeface="Trebuchet MS"/>
                <a:ea typeface="ヒラギノ角ゴ ProN W3"/>
              </a:rPr>
              <a:t>Sprachzentren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ヒラギノ角ゴ ProN W3"/>
              </a:rPr>
              <a:t>) of the Pedagogical Institute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ヒラギノ角ゴ ProN W3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ヒラギノ角ゴ ProN W3"/>
              </a:rPr>
              <a:t>Autonomous Province of Bolzano – South Ty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Picture 3" descr="Picture1.jpg"/>
          <p:cNvPicPr/>
          <p:nvPr/>
        </p:nvPicPr>
        <p:blipFill>
          <a:blip r:embed="rId1"/>
          <a:stretch/>
        </p:blipFill>
        <p:spPr>
          <a:xfrm>
            <a:off x="7612200" y="1208160"/>
            <a:ext cx="2203200" cy="1506600"/>
          </a:xfrm>
          <a:prstGeom prst="rect">
            <a:avLst/>
          </a:prstGeom>
          <a:ln w="0">
            <a:noFill/>
          </a:ln>
        </p:spPr>
      </p:pic>
      <p:grpSp>
        <p:nvGrpSpPr>
          <p:cNvPr id="684" name="Group 7"/>
          <p:cNvGrpSpPr/>
          <p:nvPr/>
        </p:nvGrpSpPr>
        <p:grpSpPr>
          <a:xfrm>
            <a:off x="1386000" y="803160"/>
            <a:ext cx="7308720" cy="1008000"/>
            <a:chOff x="1386000" y="803160"/>
            <a:chExt cx="7308720" cy="1008000"/>
          </a:xfrm>
        </p:grpSpPr>
        <p:sp>
          <p:nvSpPr>
            <p:cNvPr id="685" name="AutoShape 6"/>
            <p:cNvSpPr/>
            <p:nvPr/>
          </p:nvSpPr>
          <p:spPr>
            <a:xfrm rot="5400000">
              <a:off x="4543920" y="-470880"/>
              <a:ext cx="992520" cy="3571920"/>
            </a:xfrm>
            <a:prstGeom prst="verticalScroll">
              <a:avLst>
                <a:gd name="adj" fmla="val 12500"/>
              </a:avLst>
            </a:prstGeom>
            <a:solidFill>
              <a:srgbClr val="a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Rectangle 8"/>
            <p:cNvSpPr/>
            <p:nvPr/>
          </p:nvSpPr>
          <p:spPr>
            <a:xfrm>
              <a:off x="1386000" y="803160"/>
              <a:ext cx="730872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500" spc="-1" strike="noStrike">
                  <a:solidFill>
                    <a:srgbClr val="ffffff"/>
                  </a:solidFill>
                  <a:latin typeface="Trebuchet MS"/>
                  <a:ea typeface="Osaka"/>
                </a:rPr>
                <a:t>Research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 txBox="1"/>
          <p:nvPr/>
        </p:nvSpPr>
        <p:spPr>
          <a:xfrm>
            <a:off x="236520" y="2678040"/>
            <a:ext cx="9607680" cy="48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Partner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ederal Union of European Nationalit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rman-speaking community, Belgiu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jskolen Ostersoen, Denma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rinthian Slove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outh of European Nationalities, Netherlan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GB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Objectiv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moting multilingualism and language diversity in Europe by taking into consideration regional and minority langua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ing the opportunities offered by multilingualism in minority reg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ringing together people who work in the field (teachers at all educational levels, academics and policy-maker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stablishing a competence centre addressing multilingual minority reg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Slide Number Placeholder 3"/>
          <p:cNvSpPr/>
          <p:nvPr/>
        </p:nvSpPr>
        <p:spPr>
          <a:xfrm>
            <a:off x="8305920" y="6886440"/>
            <a:ext cx="19044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8B612-A58E-41DB-A512-17324C915D71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Box 9"/>
          <p:cNvSpPr/>
          <p:nvPr/>
        </p:nvSpPr>
        <p:spPr>
          <a:xfrm>
            <a:off x="236520" y="1690560"/>
            <a:ext cx="9844200" cy="13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990000"/>
                </a:solidFill>
                <a:latin typeface="Arial"/>
              </a:rPr>
              <a:t>RML2future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990000"/>
                </a:solidFill>
                <a:latin typeface="Arial"/>
              </a:rPr>
              <a:t>Network for Multilingualism and Language Diversity in Europe</a:t>
            </a:r>
            <a:r>
              <a:rPr b="1" lang="de-DE" sz="2400" spc="-1" strike="noStrike">
                <a:solidFill>
                  <a:srgbClr val="003a6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0" name="Group 7"/>
          <p:cNvGrpSpPr/>
          <p:nvPr/>
        </p:nvGrpSpPr>
        <p:grpSpPr>
          <a:xfrm>
            <a:off x="1386000" y="787320"/>
            <a:ext cx="7308720" cy="1008000"/>
            <a:chOff x="1386000" y="787320"/>
            <a:chExt cx="7308720" cy="1008000"/>
          </a:xfrm>
        </p:grpSpPr>
        <p:sp>
          <p:nvSpPr>
            <p:cNvPr id="691" name="AutoShape 6"/>
            <p:cNvSpPr/>
            <p:nvPr/>
          </p:nvSpPr>
          <p:spPr>
            <a:xfrm rot="5400000">
              <a:off x="4543920" y="-486720"/>
              <a:ext cx="992520" cy="3571920"/>
            </a:xfrm>
            <a:prstGeom prst="verticalScroll">
              <a:avLst>
                <a:gd name="adj" fmla="val 12500"/>
              </a:avLst>
            </a:prstGeom>
            <a:solidFill>
              <a:srgbClr val="a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Rectangle 8"/>
            <p:cNvSpPr/>
            <p:nvPr/>
          </p:nvSpPr>
          <p:spPr>
            <a:xfrm>
              <a:off x="1386000" y="787320"/>
              <a:ext cx="730872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500" spc="-1" strike="noStrike">
                  <a:solidFill>
                    <a:srgbClr val="ffffff"/>
                  </a:solidFill>
                  <a:latin typeface="Trebuchet MS"/>
                  <a:ea typeface="Osaka"/>
                </a:rPr>
                <a:t>Research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3" name="Picture 2" descr="I:\PROJEKTE\1-421 RML2future\Logos\logo-rml2future\rml2future-engl\RML2future-engl.jpg"/>
          <p:cNvPicPr/>
          <p:nvPr/>
        </p:nvPicPr>
        <p:blipFill>
          <a:blip r:embed="rId1"/>
          <a:stretch/>
        </p:blipFill>
        <p:spPr>
          <a:xfrm>
            <a:off x="6040440" y="2851200"/>
            <a:ext cx="2879640" cy="17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 txBox="1"/>
          <p:nvPr/>
        </p:nvSpPr>
        <p:spPr>
          <a:xfrm>
            <a:off x="396360" y="1767960"/>
            <a:ext cx="90680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c0000"/>
                </a:solidFill>
                <a:latin typeface="Arial"/>
              </a:rPr>
              <a:t>RML2future –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c0000"/>
                </a:solidFill>
                <a:latin typeface="Arial"/>
              </a:rPr>
              <a:t>Network for Multilingualism  and Language Diversity in Euro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Work packag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nguage poli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nguage plann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velopment of didactic and pedagogical ide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nguage proficiency assess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arly multilingualis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ult edu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Slide Number Placeholder 3"/>
          <p:cNvSpPr/>
          <p:nvPr/>
        </p:nvSpPr>
        <p:spPr>
          <a:xfrm>
            <a:off x="8305920" y="6886440"/>
            <a:ext cx="19044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C74B6-C367-4541-9A7D-69F6793A06CA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AutoShape 6"/>
          <p:cNvSpPr/>
          <p:nvPr/>
        </p:nvSpPr>
        <p:spPr>
          <a:xfrm rot="5400000">
            <a:off x="4544280" y="-486720"/>
            <a:ext cx="992160" cy="3571920"/>
          </a:xfrm>
          <a:prstGeom prst="verticalScroll">
            <a:avLst>
              <a:gd name="adj" fmla="val 12500"/>
            </a:avLst>
          </a:prstGeom>
          <a:solidFill>
            <a:srgbClr val="a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Box 9"/>
          <p:cNvSpPr/>
          <p:nvPr/>
        </p:nvSpPr>
        <p:spPr>
          <a:xfrm>
            <a:off x="3468600" y="993600"/>
            <a:ext cx="2857680" cy="5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ffffff"/>
                </a:solidFill>
                <a:latin typeface="Arial"/>
              </a:rPr>
              <a:t>Researc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Picture 2" descr="I:\PROJEKTE\1-421 RML2future\Logos\logo-rml2future\rml2future-engl\RML2future-engl.jpg"/>
          <p:cNvPicPr/>
          <p:nvPr/>
        </p:nvPicPr>
        <p:blipFill>
          <a:blip r:embed="rId1"/>
          <a:stretch/>
        </p:blipFill>
        <p:spPr>
          <a:xfrm>
            <a:off x="6326280" y="2994120"/>
            <a:ext cx="2879640" cy="172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oald Christesen</dc:creator>
  <dc:description>Präsentationshintergrund Vorlage</dc:description>
  <dc:language>en-US</dc:language>
  <cp:lastModifiedBy>Scientific Network</cp:lastModifiedBy>
  <dcterms:modified xsi:type="dcterms:W3CDTF">2009-12-11T14:30:15Z</dcterms:modified>
  <cp:revision>172</cp:revision>
  <dc:subject/>
  <dc:title>Blau und Grau</dc:title>
</cp:coreProperties>
</file>