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D6E0-B8A4-4CF8-AF32-AE6A2E4A7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2F11-61C7-4DD4-AFD1-38BBB4660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2F4A-97AA-4B8A-A027-90B19C095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9003-AE39-4CE9-8D76-6FE7C77A2A8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785BB-5725-4D8F-9A32-43128E03CB4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DBC56-BFFC-4C9C-9BDF-85BD36F3A44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FC5A8-55A4-4C5E-9727-F2BCA0422F4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AB650-865F-4E00-A428-E148F62C2CF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29ADB-D206-4E28-A887-7BB4437915A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DA488-F80F-44E1-95A1-EE2C4896ECB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C2B5A-86B3-4F3E-9BC9-F3E0BD64E90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8F4BE-436C-4EB0-ADE7-F8DE974C5E3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E74FD-8550-477C-875B-0E65F0F2884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F49CE6-60DE-4D90-844C-44BD71D76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37CE0-1E56-43DD-A553-0775605BDC4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9B2D37-54AC-4F71-9C54-AF0EFAF87C6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47CC3D-7F88-4737-8309-D158D2CDA49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D4AAAD-E48D-4F5E-856E-24F3DCBF62D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4659B3-8004-42E9-8BA1-C4205EE2116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D6B8E7-F6D9-40C0-A000-E29E2D5F9AE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CA8B53-A35F-4952-8876-BDCE9C4982C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780DBD-72B2-4FC4-8A09-B7AF4162282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297A2A-ADE1-4088-83F4-86889BDB420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F4CBD9-FB87-49CF-AC8C-243B7A923E6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FBBDBC-C5B1-435D-AE50-62DF28A68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3D9A-75E3-4331-8A91-DD74525D13F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5F0B47-5F9D-4C3C-8716-A57CF047660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3486CF-8269-4896-A38C-615FEEE59A7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924D59-B8C3-4B26-A9D0-9B9CF6DC33B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E18D86-FE6E-4B34-9439-D411520DABC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413C3C-41F3-457C-8C8A-795208605F3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3D00A6-C1D1-400C-9651-A9F6A6517F2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2C1E4C-30D8-476F-ABC9-09F9700D4D4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EAA99A-2C15-4FB9-88F0-4D50BEE4B4B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847079-E020-499B-BD82-B20CD96AAA9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DA0721-8734-4405-B1DB-E62FA0EE2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EC9BA-3908-494A-BD2F-1022AE7FB92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EC2487-3CE4-4C5D-9494-EE26056101B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E83F1A-D52A-465C-8C91-69F1FDF7A5C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E247ED-9904-4ACA-B75B-8C36C45CEDC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429F0-3E62-4991-B452-E33AF03273D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CFCC3-2191-44DC-A0AF-071FDB25C96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FA057-BE4F-4A4A-B8A3-D779452598F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61213-D74C-456E-BB24-B3CB9E9DD55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49124-1DB1-4829-9ADB-BFE6AFEE6A6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DA113-06EA-4D91-8820-4DD56174C77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F20E7-27FF-49AB-85C2-507328F6CF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16A22-84AB-457A-B81D-64657DABD25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421BF-D8C0-4E94-8965-BE1200BA65E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C748B-96B5-4904-AFA0-9A831E86496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46559-F021-4281-A062-1F37D332162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38B2A-832A-4961-BF23-E3455C28338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D355C-F6A0-4F23-98F1-6E029285516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F590FC-DFC4-475A-B237-5ACB81527EB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E80573-1516-43D7-ACD3-0E06AE8B702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85B60A-B988-4F6A-93EC-59084E26FF9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7296B6-7747-4EE8-8D18-0FD50292A3C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57B978-F852-4296-99C5-6A902D9442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CE417-24C1-4382-838B-3DAF9D65AA0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8B1514-45CC-4CDE-A5AB-2DD093C3568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8AA461-1275-45E7-90D0-44B5B582ECE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04A6C3-8521-45AD-86FE-B65C3777C77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82B88B-C809-4806-8903-811625C11B7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FDA514-1482-4128-9ACF-574279FC889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020D65-63DA-4E90-B967-92CA0AB4602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FB6F96-FE2B-4E06-A65A-F98A092C175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BDF21C-619F-4DD7-8F1B-6570923FF29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D8F854-C9C6-43F8-974A-F629483991B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7168CB-4900-4EDF-95E9-C058F23E9F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6D1F0-8AB7-4A28-A8EF-EC8735C9CE9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392DD-FA08-405C-A6DF-B70BDA4A9A2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6C241-D28A-43B7-9398-E820A1B1B91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F7F6EC-4E67-4B7C-B694-DAF7729E610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27958B-6425-44B5-B452-E39C172F3F5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577530-218C-462E-B562-8691FB2B911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CAE903-2A43-4BA5-BCB9-3C8BBB86B26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37BB1-B3BD-4C05-B087-79669590D3D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55BC1-3CEC-4F82-BC48-3B7B0955D97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34CC39-9056-459D-B9B5-2C18397F77B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A3A46-92B7-42BE-B62F-DB48502741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285C1-034E-42F3-884C-FF6F2806B5D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93B67-87FE-4111-A32C-A2534A96905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1393B-ED99-4539-8CAC-6ED75224B66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06CED-603A-47C9-9EC9-B909962371B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879C2-B06E-43F1-8AAD-DB4BCB965D4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6565A-ABB0-4036-AFE4-34A063D78A2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8A77D-7727-4BD1-8747-20FE3265B57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F61FE-F9F0-46D2-B712-21770450C15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AF9E1-D456-4BC7-B1ED-8668406151B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FD840-9525-427E-AD30-32A370B6099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36CD7-89D3-4725-8D22-F0E8C4F97C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8F113-D390-4BC8-8F46-152A9AD3502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58F23-A838-4575-AE24-8DFCF25FB1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C9DE1-6625-4B49-95C8-939ED2CACA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D62C-9FC1-41F6-83D2-D3FA51BC6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8410B-07E1-47D3-A70E-CF81FF6046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D4805-19EC-4E11-B1F2-4E50833CD9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58227-B504-4440-A745-DC6777FEA1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F185-68D3-47AF-973E-B70B4AF790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2CCA6-9AD5-453C-A9F1-D81733E731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F017-F08F-4FB3-ACFD-3B72D8A818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97D-F562-47BE-B23D-E00B7088F4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7ED-3592-47C2-B5FD-2976426FBB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0616-3A84-4246-B1E0-55FCDD29E4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8405-4AE2-4295-B031-FDD881A288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F4AF-8A91-4E83-93BE-314CC51349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85E4-D4D9-4EC6-9EF4-E562EED3AB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E64-2CA4-43BA-92E0-D83C32DD7C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5DD-887F-4260-A897-15E5909F3A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A35-321B-45E6-97F5-26F5045708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FB24-8795-4AE3-A482-20CA264E04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3B0-DCE9-4C83-862B-A6ECF549E4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B8E-03D7-4D23-B959-415B80F59A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A1DA0-40D2-4E1B-8B01-C7ED29BB733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A8B8D-0CDD-4848-8373-653C469CC6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D9D86-A220-4A6D-BF73-9BF49BDFF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BDAD-55E6-4CF0-B619-0518FB4EB19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A5DE3-427B-4A80-8126-94AAD8A99F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8DA7B-0620-4E24-9ABC-37767ECD8D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27403-5BC4-467A-9AB2-DAB63EFF70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CFCC6-63EC-4612-A734-EA06BAAA3B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02E5D-F513-4CEC-9E72-8CFF9D6F74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6A444-8FED-4327-9F68-B1957D8B7C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3118E-5751-46E5-9AD8-052A570306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4F3E4-7661-405A-8857-BD684B5624A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1DC51-0BE5-441F-A52A-D2E934F6967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8B9B8-E060-4D17-9ACE-9A7C3D732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69608-49EE-4900-892A-2722EA8F190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63842-7241-4EE0-8DB9-6324FA6C743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261C9-6325-4B92-8152-6F75AAF1717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7E464-A8CA-4BD3-A4FE-3ECBC6E3E7C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36787-25B4-4EF5-B1EA-A20B9C7CE8B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E2335-4E1E-4151-A700-8FC4FD7DAE2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B2FBA-99B2-4655-8264-887BCDCF25C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AA2BB-E1A6-4F58-86DA-37166EC52E7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3F060-2DFB-4A5C-B857-BB2FE0F8A8E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92220-2265-4571-8427-B97C1D9015C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182E6-E40A-4390-9143-6D7843B8C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1B0F-C013-4D18-BF82-356A2619A6B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9F4C4-234F-4D69-A287-E9B4B11D96E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102A-B2D1-4D2E-BA50-734CBE7618E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11BE-DFDD-434C-9D4E-A0C2F8CC16C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25D5-B9C6-4C59-A82E-1ADA06EE60D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9B34-8F38-4C41-859D-9F7FFB0C039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2BC8-4C79-475B-A0EB-D564D18EA7F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6614-7737-4565-822C-3F254216082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72AA-E195-4688-B811-7937BBADEED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AA5B-45F3-4E56-9C36-36F283F0C89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0432-E647-46B8-8FC5-B012BEDDA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8B3E-426E-40AE-9BF2-D3AFA83BD8F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199C-9018-483D-BF5E-2ABF643AF7E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1BD4-C443-4FC4-913F-F5AF1779CEA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9C35-7194-4CAD-9810-CEA61D70F62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FAF14F-F71E-46C7-BA0F-7D813C2E49A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33525C-E3E6-4D8C-878C-76ECDAF6AC7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F5C91C-493C-4143-BF9E-8E77871F7E0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1AF7E9-7167-4A75-B094-08128D2F342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8122C5-2604-4216-BCCA-8BFEDA3E7CD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5A221C-ADDE-4790-8A98-97414B1AA8C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6FF43B-2B35-42B9-860D-F7467265C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E1C7-08CD-44DD-99F6-E3751554803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666B86-4D96-46A8-9BA3-9FDE9F6BF3A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E95060-9842-42C7-AF9A-018AB95FE4B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CD8274-2D84-466C-AADF-E5B04C716A3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A67431-80A7-4324-A31D-7F9C4DF7675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064E0E-BF99-4B49-A7C8-98465D562A8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A4287-5152-4D62-8206-5587A6FAB42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F57A98-7A77-4E5D-98A0-7DD7C06AA5E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CA494-76EF-4989-98E2-918BEA5BEA0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C6F29-11A9-4D71-9936-9CF43B01191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930E2-B7A1-4D0E-BE14-CB4F1DED2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1F37-2CCF-4AAE-AF28-D5992A603A3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0B003-88F8-4918-988D-29D0B3D216F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5B786-2A7F-475D-8417-29EF51E0BCE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C136D-241E-41D7-8612-EF550B71880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52378-268C-4724-95E0-432F29310CC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E74E6-5465-4CD3-B960-B20D6DFE01C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15D40-1780-4778-90F9-47AAEEE2434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44A59-F5D5-4D24-823A-EB48546DD2D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C590F-2799-4AD4-B7D3-66F2230C239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7ED69-DE46-4880-AE97-6B201A0D63D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C8A62-3C4C-496F-9C06-215B57B0D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3632-6D70-430F-8FF0-9B1CFD2BC2F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\\abz01fst\users\user\swilmes\Desktop\Background PPP.jpg"/>
          <p:cNvPicPr/>
          <p:nvPr/>
        </p:nvPicPr>
        <p:blipFill>
          <a:blip r:embed="rId4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78" name="TextBox 6"/>
          <p:cNvSpPr/>
          <p:nvPr/>
        </p:nvSpPr>
        <p:spPr>
          <a:xfrm>
            <a:off x="5183280" y="422280"/>
            <a:ext cx="4725720" cy="28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c0000"/>
                </a:solidFill>
                <a:latin typeface="Arial"/>
              </a:rPr>
              <a:t>Institute for Specialised Communication and Multilingualis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0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271F-312E-48C6-9B90-36C5BA1D2F7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9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\\abz01fst\users\user\swilmes\Desktop\Background PPP.jpg"/>
          <p:cNvPicPr/>
          <p:nvPr/>
        </p:nvPicPr>
        <p:blipFill>
          <a:blip r:embed="rId4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11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E108-62D7-42F6-B397-FAB2D51C0C8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1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" descr="\\abz01fst\users\user\swilmes\Desktop\Background PPP.jpg"/>
          <p:cNvPicPr/>
          <p:nvPr/>
        </p:nvPicPr>
        <p:blipFill>
          <a:blip r:embed="rId4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12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C3B6-6AC5-4657-B808-D6FAD613D73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3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\\abz01fst\users\user\swilmes\Desktop\Background PPP.jpg"/>
          <p:cNvPicPr/>
          <p:nvPr/>
        </p:nvPicPr>
        <p:blipFill>
          <a:blip r:embed="rId4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3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70FD-39FF-4FE9-BC4B-16917D9D352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5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\\abz01fst\users\user\swilmes\Desktop\Background PPP.jpg"/>
          <p:cNvPicPr/>
          <p:nvPr/>
        </p:nvPicPr>
        <p:blipFill>
          <a:blip r:embed="rId4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\\abz01fst\users\user\swilmes\Desktop\Background PPP.jpg"/>
          <p:cNvPicPr/>
          <p:nvPr/>
        </p:nvPicPr>
        <p:blipFill>
          <a:blip r:embed="rId5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14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18DB-0FDF-4CBA-9C5F-81514228E4D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8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\\abz01fst\users\user\swilmes\Desktop\Background PPP.jpg"/>
          <p:cNvPicPr/>
          <p:nvPr/>
        </p:nvPicPr>
        <p:blipFill>
          <a:blip r:embed="rId4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15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73AB-E854-4DB1-BF06-DF70111F48B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539640" y="6708600"/>
            <a:ext cx="1228680" cy="62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5F04-8BD8-41C4-BDF3-458F7B9EE32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3"/>
          <a:stretch/>
        </p:blipFill>
        <p:spPr>
          <a:xfrm>
            <a:off x="396720" y="6780240"/>
            <a:ext cx="1229040" cy="6285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992C-6E50-4C0E-A02D-78427900D05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2D95-5E22-4F8E-B13D-68C281317A8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\\abz01fst\users\user\swilmes\Desktop\Background PPP.jpg"/>
          <p:cNvPicPr/>
          <p:nvPr/>
        </p:nvPicPr>
        <p:blipFill>
          <a:blip r:embed="rId4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5183280" y="422280"/>
            <a:ext cx="4725720" cy="28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c0000"/>
                </a:solidFill>
                <a:latin typeface="Arial"/>
              </a:rPr>
              <a:t>Institute for Specialised Communication and Multilingualis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5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3775-7AE7-4F7D-918E-FCA5276E38D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\\abz01fst\users\user\swilmes\Desktop\Background PPP.jpg"/>
          <p:cNvPicPr/>
          <p:nvPr/>
        </p:nvPicPr>
        <p:blipFill>
          <a:blip r:embed="rId4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5183280" y="422280"/>
            <a:ext cx="4725720" cy="28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c0000"/>
                </a:solidFill>
                <a:latin typeface="Arial"/>
              </a:rPr>
              <a:t>Institute for Specialised Communication and Multilingualis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CD89-685C-41C7-8C36-30BEC314547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\\abz01fst\users\user\swilmes\Desktop\Background PPP.jpg"/>
          <p:cNvPicPr/>
          <p:nvPr/>
        </p:nvPicPr>
        <p:blipFill>
          <a:blip r:embed="rId4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6"/>
          <p:cNvSpPr/>
          <p:nvPr/>
        </p:nvSpPr>
        <p:spPr>
          <a:xfrm>
            <a:off x="5183280" y="422280"/>
            <a:ext cx="4725720" cy="28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c0000"/>
                </a:solidFill>
                <a:latin typeface="Arial"/>
              </a:rPr>
              <a:t>Institute for Specialised Communication and Multilingualis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7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25BF-251C-48A3-9505-863AD6E3F97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\\abz01fst\users\user\swilmes\Desktop\Background PPP.jpg"/>
          <p:cNvPicPr/>
          <p:nvPr/>
        </p:nvPicPr>
        <p:blipFill>
          <a:blip r:embed="rId4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7"/>
          <p:cNvSpPr/>
          <p:nvPr/>
        </p:nvSpPr>
        <p:spPr>
          <a:xfrm>
            <a:off x="5183280" y="422280"/>
            <a:ext cx="4725720" cy="28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c0000"/>
                </a:solidFill>
                <a:latin typeface="Arial"/>
              </a:rPr>
              <a:t>Institute for Specialised Communication and Multilingualis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8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7DB6-B188-4D8C-B384-F9BF1E284A8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3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\\abz01fst\users\user\swilmes\Desktop\Background PPP.jpg"/>
          <p:cNvPicPr/>
          <p:nvPr/>
        </p:nvPicPr>
        <p:blipFill>
          <a:blip r:embed="rId4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35" name="TextBox 6"/>
          <p:cNvSpPr/>
          <p:nvPr/>
        </p:nvSpPr>
        <p:spPr>
          <a:xfrm>
            <a:off x="5183280" y="422280"/>
            <a:ext cx="4725720" cy="28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c0000"/>
                </a:solidFill>
                <a:latin typeface="Arial"/>
              </a:rPr>
              <a:t>Institute for Specialised Communication and Multilingualis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9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A619-4A22-4BE3-BC3E-B2418B5F605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urac.edu/bistro" TargetMode="External"/><Relationship Id="rId3" Type="http://schemas.openxmlformats.org/officeDocument/2006/relationships/hyperlink" Target="http://www.eurac.edu/LexALP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830592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004B-F460-4284-9B44-AABA63FFBD2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\\abz01fst\users\user\swilmes\Desktop\Picture1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5"/>
          <p:cNvSpPr/>
          <p:nvPr/>
        </p:nvSpPr>
        <p:spPr>
          <a:xfrm>
            <a:off x="325440" y="3351240"/>
            <a:ext cx="921528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itute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ialised Communication an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ltilingualis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6"/>
          <p:cNvSpPr/>
          <p:nvPr/>
        </p:nvSpPr>
        <p:spPr>
          <a:xfrm>
            <a:off x="254160" y="1636560"/>
            <a:ext cx="92865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Applied Lingu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830592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A408-C00E-4427-B5D5-C27B8BD66F8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\\abz01fst\users\user\swilmes\Desktop\Picture1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46" name="AutoShape 20"/>
          <p:cNvSpPr/>
          <p:nvPr/>
        </p:nvSpPr>
        <p:spPr>
          <a:xfrm>
            <a:off x="504720" y="1208160"/>
            <a:ext cx="9068040" cy="2071440"/>
          </a:xfrm>
          <a:prstGeom prst="pi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6"/>
          <p:cNvGrpSpPr/>
          <p:nvPr/>
        </p:nvGrpSpPr>
        <p:grpSpPr>
          <a:xfrm>
            <a:off x="754200" y="3279600"/>
            <a:ext cx="2089080" cy="3587760"/>
            <a:chOff x="754200" y="3279600"/>
            <a:chExt cx="2089080" cy="3587760"/>
          </a:xfrm>
        </p:grpSpPr>
        <p:sp>
          <p:nvSpPr>
            <p:cNvPr id="648" name="AutoShape 8"/>
            <p:cNvSpPr/>
            <p:nvPr/>
          </p:nvSpPr>
          <p:spPr>
            <a:xfrm>
              <a:off x="754200" y="3279600"/>
              <a:ext cx="2089080" cy="3587760"/>
            </a:xfrm>
            <a:prstGeom prst="pie">
              <a:avLst/>
            </a:prstGeom>
            <a:solidFill>
              <a:srgbClr val="4068a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9"/>
            <p:cNvSpPr/>
            <p:nvPr/>
          </p:nvSpPr>
          <p:spPr>
            <a:xfrm>
              <a:off x="754200" y="3841560"/>
              <a:ext cx="2089080" cy="56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9"/>
            <p:cNvSpPr/>
            <p:nvPr/>
          </p:nvSpPr>
          <p:spPr>
            <a:xfrm>
              <a:off x="754200" y="4404960"/>
              <a:ext cx="2089080" cy="18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10"/>
          <p:cNvGrpSpPr/>
          <p:nvPr/>
        </p:nvGrpSpPr>
        <p:grpSpPr>
          <a:xfrm>
            <a:off x="3825720" y="3279600"/>
            <a:ext cx="2089080" cy="3587760"/>
            <a:chOff x="3825720" y="3279600"/>
            <a:chExt cx="2089080" cy="3587760"/>
          </a:xfrm>
        </p:grpSpPr>
        <p:sp>
          <p:nvSpPr>
            <p:cNvPr id="652" name="AutoShape 12"/>
            <p:cNvSpPr/>
            <p:nvPr/>
          </p:nvSpPr>
          <p:spPr>
            <a:xfrm>
              <a:off x="3825720" y="3279600"/>
              <a:ext cx="2089080" cy="3587760"/>
            </a:xfrm>
            <a:prstGeom prst="pie">
              <a:avLst/>
            </a:prstGeom>
            <a:solidFill>
              <a:srgbClr val="9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13"/>
            <p:cNvSpPr/>
            <p:nvPr/>
          </p:nvSpPr>
          <p:spPr>
            <a:xfrm>
              <a:off x="3825720" y="3841560"/>
              <a:ext cx="2089080" cy="56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3"/>
            <p:cNvSpPr/>
            <p:nvPr/>
          </p:nvSpPr>
          <p:spPr>
            <a:xfrm>
              <a:off x="3825720" y="4404960"/>
              <a:ext cx="2089080" cy="18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14"/>
          <p:cNvGrpSpPr/>
          <p:nvPr/>
        </p:nvGrpSpPr>
        <p:grpSpPr>
          <a:xfrm>
            <a:off x="6754680" y="3279600"/>
            <a:ext cx="2089080" cy="3587760"/>
            <a:chOff x="6754680" y="3279600"/>
            <a:chExt cx="2089080" cy="3587760"/>
          </a:xfrm>
        </p:grpSpPr>
        <p:sp>
          <p:nvSpPr>
            <p:cNvPr id="656" name="AutoShape 16"/>
            <p:cNvSpPr/>
            <p:nvPr/>
          </p:nvSpPr>
          <p:spPr>
            <a:xfrm>
              <a:off x="6754680" y="3279600"/>
              <a:ext cx="2089080" cy="3587760"/>
            </a:xfrm>
            <a:prstGeom prst="pi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utoShape 17"/>
            <p:cNvSpPr/>
            <p:nvPr/>
          </p:nvSpPr>
          <p:spPr>
            <a:xfrm>
              <a:off x="6754680" y="3841560"/>
              <a:ext cx="2089080" cy="56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7"/>
            <p:cNvSpPr/>
            <p:nvPr/>
          </p:nvSpPr>
          <p:spPr>
            <a:xfrm>
              <a:off x="6754680" y="4404960"/>
              <a:ext cx="2089080" cy="18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Rectangle 25"/>
          <p:cNvSpPr/>
          <p:nvPr/>
        </p:nvSpPr>
        <p:spPr>
          <a:xfrm>
            <a:off x="3325680" y="2494080"/>
            <a:ext cx="3365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93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Trebuchet MS"/>
              </a:rPr>
              <a:t>MAIN AREAS OF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4"/>
          <p:cNvSpPr/>
          <p:nvPr/>
        </p:nvSpPr>
        <p:spPr>
          <a:xfrm>
            <a:off x="825480" y="4780080"/>
            <a:ext cx="20066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Trebuchet MS"/>
              </a:rPr>
              <a:t>Bilingualism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Trebuchet MS"/>
              </a:rPr>
              <a:t>Multilingu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2"/>
          <p:cNvSpPr/>
          <p:nvPr/>
        </p:nvSpPr>
        <p:spPr>
          <a:xfrm>
            <a:off x="3897360" y="4851360"/>
            <a:ext cx="1942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Trebuchet MS"/>
              </a:rPr>
              <a:t>Specialised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23"/>
          <p:cNvSpPr/>
          <p:nvPr/>
        </p:nvSpPr>
        <p:spPr>
          <a:xfrm>
            <a:off x="6826320" y="4851360"/>
            <a:ext cx="19288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0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Trebuchet MS"/>
              </a:rPr>
              <a:t>Languag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3"/>
          <p:cNvSpPr/>
          <p:nvPr/>
        </p:nvSpPr>
        <p:spPr>
          <a:xfrm>
            <a:off x="830592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AFF4-8F90-4ABD-83CC-422FD189BAB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5"/>
          <p:cNvSpPr/>
          <p:nvPr/>
        </p:nvSpPr>
        <p:spPr>
          <a:xfrm>
            <a:off x="896760" y="993600"/>
            <a:ext cx="8501400" cy="2014560"/>
          </a:xfrm>
          <a:prstGeom prst="flowChartExtract">
            <a:avLst/>
          </a:prstGeom>
          <a:solidFill>
            <a:srgbClr val="00b8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5"/>
          <p:cNvSpPr/>
          <p:nvPr/>
        </p:nvSpPr>
        <p:spPr>
          <a:xfrm>
            <a:off x="1039680" y="2994120"/>
            <a:ext cx="2089440" cy="3587760"/>
          </a:xfrm>
          <a:prstGeom prst="flowChartMagneticDisk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15"/>
          <p:cNvSpPr/>
          <p:nvPr/>
        </p:nvSpPr>
        <p:spPr>
          <a:xfrm>
            <a:off x="3754440" y="2994120"/>
            <a:ext cx="2089080" cy="3587760"/>
          </a:xfrm>
          <a:prstGeom prst="flowChartMagneticDisk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15"/>
          <p:cNvSpPr/>
          <p:nvPr/>
        </p:nvSpPr>
        <p:spPr>
          <a:xfrm>
            <a:off x="6611760" y="2994120"/>
            <a:ext cx="2089440" cy="3587760"/>
          </a:xfrm>
          <a:prstGeom prst="flowChartMagneticDisk">
            <a:avLst/>
          </a:prstGeom>
          <a:solidFill>
            <a:srgbClr val="6194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0"/>
          <p:cNvSpPr/>
          <p:nvPr/>
        </p:nvSpPr>
        <p:spPr>
          <a:xfrm>
            <a:off x="3182760" y="1994040"/>
            <a:ext cx="37864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HAT WE 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8"/>
          <p:cNvSpPr/>
          <p:nvPr/>
        </p:nvSpPr>
        <p:spPr>
          <a:xfrm>
            <a:off x="1254240" y="3351240"/>
            <a:ext cx="16603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3897360" y="3279600"/>
            <a:ext cx="19429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Training/ Consu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6754680" y="3351240"/>
            <a:ext cx="18716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Pub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2"/>
          <p:cNvSpPr/>
          <p:nvPr/>
        </p:nvSpPr>
        <p:spPr>
          <a:xfrm>
            <a:off x="968400" y="4494240"/>
            <a:ext cx="2160720" cy="8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Research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Research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4"/>
          <p:cNvSpPr/>
          <p:nvPr/>
        </p:nvSpPr>
        <p:spPr>
          <a:xfrm>
            <a:off x="4040280" y="4280040"/>
            <a:ext cx="2154240" cy="21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ermi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pecialised trans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Electronic languag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3"/>
          <p:cNvSpPr/>
          <p:nvPr/>
        </p:nvSpPr>
        <p:spPr>
          <a:xfrm>
            <a:off x="6611760" y="4208400"/>
            <a:ext cx="214344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onference proceed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cientific art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ictionaries (printed/ electron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6768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00"/>
                </a:solidFill>
                <a:latin typeface="Arial"/>
              </a:rPr>
              <a:t>Bilingualism and Multilingual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504360" y="1279080"/>
            <a:ext cx="906804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roaches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nguistic diversity manage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nguages and mig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guage proficiency assessment &amp; promotion of children with migration background (Multicultural Education on Borde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alysis of the need for specialised language skills among immigrants to South Tyrol (LIMM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onal and minority langu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tworking on multilingualism and language diversity in Europe (RML2 futu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onic resources for Italian sign language (LODE &amp; el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nguage proficiency and language cont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alysis of second language competences of South Tyrolean and the sociolinguistic background (KOLIPS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outh Tyrolean “bilingualism examination” in comparison with other language tests and certif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ond and foreign language teaching and lear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versifying “mother tongue" teaching in multilingual contexts (MARIL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guage learning and new technologies (ELDIT, Korpus Südtiro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830592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5949-7099-4C1F-AF29-7A47CEC6E0D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4360" y="922320"/>
            <a:ext cx="906804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00"/>
                </a:solidFill>
                <a:latin typeface="Arial"/>
              </a:rPr>
              <a:t>Specialised Commun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cus 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gal langua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terminological comparison of different legal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rminology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shed in online databases (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rac.edu/bistro</a:t>
            </a:r>
            <a:r>
              <a:rPr b="0" lang="en-GB" sz="1800" spc="-1" strike="noStrike">
                <a:solidFill>
                  <a:srgbClr val="ac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1800" spc="-1" strike="noStrike">
                <a:solidFill>
                  <a:srgbClr val="ac0000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urac.edu/LexAL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rminolog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paratory work for the South Tyrolean Terminology Commission (bistr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rmonisation of the terminology used by the Alpine Convention (LexAL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ctiona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alian-German legal dictionary (DIGI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ctionary of university law in Italy and Austria (UniTE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ining cour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 in technical writing and computer aided translation (InTra 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830592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4780-7382-42B2-9027-281198B56F4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10"/>
          <p:cNvSpPr/>
          <p:nvPr/>
        </p:nvSpPr>
        <p:spPr>
          <a:xfrm>
            <a:off x="236520" y="787320"/>
            <a:ext cx="96076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503280" indent="-503280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"/>
          <p:cNvSpPr/>
          <p:nvPr/>
        </p:nvSpPr>
        <p:spPr>
          <a:xfrm>
            <a:off x="157320" y="1751040"/>
            <a:ext cx="9686880" cy="51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Multicultural Education on Borders</a:t>
            </a:r>
            <a:br>
              <a:rPr sz="35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nguage proficiency assessment &amp; promotion of migr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i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3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Reveal the linguistic behaviour and communicative language competences of children with migration background in primary schools (at 2006/2007 and 2009/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3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Elaborate guidelines that support the decision-making process on language assessment and linguistic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3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Combination of methods: classroom observation, language testing, interview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artn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3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Several primary and secondary schools in South Tyrol with German as language of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3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The “language centres” (</a:t>
            </a:r>
            <a:r>
              <a:rPr b="0" i="1" lang="en-GB" sz="18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Sprachzentren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) of the Pedagogical Institute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Autonomous Province of Bolzano – South Ty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3" descr="Picture1.jpg"/>
          <p:cNvPicPr/>
          <p:nvPr/>
        </p:nvPicPr>
        <p:blipFill>
          <a:blip r:embed="rId1"/>
          <a:stretch/>
        </p:blipFill>
        <p:spPr>
          <a:xfrm>
            <a:off x="7612200" y="1208160"/>
            <a:ext cx="2203200" cy="1506600"/>
          </a:xfrm>
          <a:prstGeom prst="rect">
            <a:avLst/>
          </a:prstGeom>
          <a:ln w="0">
            <a:noFill/>
          </a:ln>
        </p:spPr>
      </p:pic>
      <p:grpSp>
        <p:nvGrpSpPr>
          <p:cNvPr id="684" name="Group 7"/>
          <p:cNvGrpSpPr/>
          <p:nvPr/>
        </p:nvGrpSpPr>
        <p:grpSpPr>
          <a:xfrm>
            <a:off x="1386000" y="803160"/>
            <a:ext cx="7308720" cy="1008000"/>
            <a:chOff x="1386000" y="803160"/>
            <a:chExt cx="7308720" cy="1008000"/>
          </a:xfrm>
        </p:grpSpPr>
        <p:sp>
          <p:nvSpPr>
            <p:cNvPr id="685" name="AutoShape 6"/>
            <p:cNvSpPr/>
            <p:nvPr/>
          </p:nvSpPr>
          <p:spPr>
            <a:xfrm rot="5400000">
              <a:off x="4543920" y="-470880"/>
              <a:ext cx="992520" cy="3571920"/>
            </a:xfrm>
            <a:prstGeom prst="verticalScroll">
              <a:avLst>
                <a:gd name="adj" fmla="val 12500"/>
              </a:avLst>
            </a:prstGeom>
            <a:solidFill>
              <a:srgbClr val="a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8"/>
            <p:cNvSpPr/>
            <p:nvPr/>
          </p:nvSpPr>
          <p:spPr>
            <a:xfrm>
              <a:off x="1386000" y="803160"/>
              <a:ext cx="7308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500" spc="-1" strike="noStrike">
                  <a:solidFill>
                    <a:srgbClr val="ffffff"/>
                  </a:solidFill>
                  <a:latin typeface="Trebuchet MS"/>
                  <a:ea typeface="Osaka"/>
                </a:rPr>
                <a:t>Research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236520" y="2678040"/>
            <a:ext cx="960768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Partne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deral Union of European Nationa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rman-speaking community, Belg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jskolen Ostersoen, Denma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inthian Slove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th of European Nationalities, Netherla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oting multilingualism and language diversity in Europe by taking into consideration regional and minority langu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ing the opportunities offered by multilingualism in minority reg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inging together people who work in the field (teachers at all educational levels, academics and policy-make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ablishing a competence centre addressing multilingual minority reg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830592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D585-2B5D-4D14-A7D7-A8F76FB94ED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9"/>
          <p:cNvSpPr/>
          <p:nvPr/>
        </p:nvSpPr>
        <p:spPr>
          <a:xfrm>
            <a:off x="236520" y="1690560"/>
            <a:ext cx="984420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0000"/>
                </a:solidFill>
                <a:latin typeface="Arial"/>
              </a:rPr>
              <a:t>RML2future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0000"/>
                </a:solidFill>
                <a:latin typeface="Arial"/>
              </a:rPr>
              <a:t>Network for Multilingualism and Language Diversity in Europe</a:t>
            </a:r>
            <a:r>
              <a:rPr b="1" lang="de-DE" sz="2400" spc="-1" strike="noStrike">
                <a:solidFill>
                  <a:srgbClr val="003a6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7"/>
          <p:cNvGrpSpPr/>
          <p:nvPr/>
        </p:nvGrpSpPr>
        <p:grpSpPr>
          <a:xfrm>
            <a:off x="1386000" y="787320"/>
            <a:ext cx="7308720" cy="1008000"/>
            <a:chOff x="1386000" y="787320"/>
            <a:chExt cx="7308720" cy="1008000"/>
          </a:xfrm>
        </p:grpSpPr>
        <p:sp>
          <p:nvSpPr>
            <p:cNvPr id="691" name="AutoShape 6"/>
            <p:cNvSpPr/>
            <p:nvPr/>
          </p:nvSpPr>
          <p:spPr>
            <a:xfrm rot="5400000">
              <a:off x="4543920" y="-486720"/>
              <a:ext cx="992520" cy="3571920"/>
            </a:xfrm>
            <a:prstGeom prst="verticalScroll">
              <a:avLst>
                <a:gd name="adj" fmla="val 12500"/>
              </a:avLst>
            </a:prstGeom>
            <a:solidFill>
              <a:srgbClr val="a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8"/>
            <p:cNvSpPr/>
            <p:nvPr/>
          </p:nvSpPr>
          <p:spPr>
            <a:xfrm>
              <a:off x="1386000" y="787320"/>
              <a:ext cx="7308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500" spc="-1" strike="noStrike">
                  <a:solidFill>
                    <a:srgbClr val="ffffff"/>
                  </a:solidFill>
                  <a:latin typeface="Trebuchet MS"/>
                  <a:ea typeface="Osaka"/>
                </a:rPr>
                <a:t>Research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3" name="Picture 2" descr="I:\PROJEKTE\1-421 RML2future\Logos\logo-rml2future\rml2future-engl\RML2future-engl.jpg"/>
          <p:cNvPicPr/>
          <p:nvPr/>
        </p:nvPicPr>
        <p:blipFill>
          <a:blip r:embed="rId1"/>
          <a:stretch/>
        </p:blipFill>
        <p:spPr>
          <a:xfrm>
            <a:off x="6040440" y="2851200"/>
            <a:ext cx="287964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396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c0000"/>
                </a:solidFill>
                <a:latin typeface="Arial"/>
              </a:rPr>
              <a:t>RML2future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c0000"/>
                </a:solidFill>
                <a:latin typeface="Arial"/>
              </a:rPr>
              <a:t>Network for Multilingualism  and Language Diversity in Eur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Work packag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guage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guage pla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of didactic and pedagogical id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guage proficiency assess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rly multilingual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ult edu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830592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A8F7-A3CF-4E52-9204-10717CF5BDC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6"/>
          <p:cNvSpPr/>
          <p:nvPr/>
        </p:nvSpPr>
        <p:spPr>
          <a:xfrm rot="5400000">
            <a:off x="4544280" y="-486720"/>
            <a:ext cx="992160" cy="3571920"/>
          </a:xfrm>
          <a:prstGeom prst="verticalScroll">
            <a:avLst>
              <a:gd name="adj" fmla="val 12500"/>
            </a:avLst>
          </a:prstGeom>
          <a:solidFill>
            <a:srgbClr val="a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9"/>
          <p:cNvSpPr/>
          <p:nvPr/>
        </p:nvSpPr>
        <p:spPr>
          <a:xfrm>
            <a:off x="3468600" y="993600"/>
            <a:ext cx="2857680" cy="5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2" descr="I:\PROJEKTE\1-421 RML2future\Logos\logo-rml2future\rml2future-engl\RML2future-engl.jpg"/>
          <p:cNvPicPr/>
          <p:nvPr/>
        </p:nvPicPr>
        <p:blipFill>
          <a:blip r:embed="rId1"/>
          <a:stretch/>
        </p:blipFill>
        <p:spPr>
          <a:xfrm>
            <a:off x="6326280" y="2994120"/>
            <a:ext cx="2879640" cy="172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ald Christesen</dc:creator>
  <dc:description>Präsentationshintergrund Vorlage</dc:description>
  <dc:language>en-US</dc:language>
  <cp:lastModifiedBy>Scientific Network</cp:lastModifiedBy>
  <dcterms:modified xsi:type="dcterms:W3CDTF">2009-12-11T14:30:15Z</dcterms:modified>
  <cp:revision>172</cp:revision>
  <dc:subject/>
  <dc:title>Blau und Grau</dc:title>
</cp:coreProperties>
</file>